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7BFB-14E8-4D59-942D-5A521B1E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7D35-C76A-4D16-A6F4-76A14B78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7301-B029-4F2D-9C72-BC178071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555-47D4-4BC1-80FA-D004975D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C81-C35A-425F-AA5C-70D79BE4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951F-8159-45D8-96B2-7F162D9D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B07A-438D-4BAB-B147-C4338A6F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F1A-7A2C-4F7A-B9A4-561CC80A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F672-D9E9-4D35-B037-3FDDB8D6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08CB-5BDE-4BC8-B344-F8B1137E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795-2A96-4A60-8EE1-CF148BCD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C6D-72E7-4201-A413-820F5A7A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A3EB-E7F6-48D7-9F80-A390D5904A0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rderline Personality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allory and S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. When your close friend    unexpectedly calls off a meeting with you, would you bear an immediate hatred for her/h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 Do you have difficulties tolera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onel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. Feel insecure with relationships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. Do you have dramatic mood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appiness to melancho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. Do you have tendency of self-inju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derline Personality Disord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sych Central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“a pervasive pattern of instability of interpersonal relationships, self-image, and affects, and marked impulsivity that begins by early adulthood and is present in a variety of context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to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interpersonal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ty disturb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in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nic feelings of empt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ency to commit suicid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put the symptoms into the daily live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nvironmental fac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ff5050"/>
                </a:solidFill>
                <a:latin typeface="Arial"/>
              </a:rPr>
              <a:t>one’s childhood experience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arsha Linehan: “BPD is caused by an interaction between biological factors and an "emotionally invalidating" childhood environment.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and genetic cau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1. seroton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natural chemical in the bra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2.have more activation of the limbic system, an area in the brain that controls fear, anger, and agg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therap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help patients cope with their ill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low doses of antipsychotic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hel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encourage patients to gain additional social sup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7:43:27Z</dcterms:created>
  <dc:creator>user</dc:creator>
  <dc:description/>
  <dc:language>en-US</dc:language>
  <cp:lastModifiedBy>user</cp:lastModifiedBy>
  <dcterms:modified xsi:type="dcterms:W3CDTF">2010-10-27T17:22:27Z</dcterms:modified>
  <cp:revision>11</cp:revision>
  <dc:subject/>
  <dc:title>Borderline Personality Disorder:</dc:title>
</cp:coreProperties>
</file>