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45C-6B36-477C-AED0-DDC7C118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142-C5DF-40DA-B907-E6E1722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D09-C550-4D69-9E50-42047E45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B20-26FE-447D-B91F-65E27A71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D8C-58F5-46A6-9DAD-60C8C3BA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4CA-BAF5-48A6-A97C-0B9A3F7F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D68-1C43-431A-B855-543983B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B12-9071-4F03-BE48-B1B95DD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B67-95FA-4729-A8D3-30B8475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A7B-8C5F-49F8-BFC9-F1918059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579-C5C3-4B28-B219-24B72821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DC4-8A21-4467-9997-03A3149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3B9-7EF0-4A71-8D46-41C1E88242E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llory and S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When your close friend    unexpectedly calls off a meeting with you, would you bear an immediate hatred for her/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Do you have difficulties tole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ne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 Feel insecure with relationship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 Do you have dramatic moo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ppiness to melanch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 Do you have tendency of self-inju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sych Central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“a pervasive pattern of instability of interpersonal relationships, self-image, and affects, and marked impulsivity that begins by early adulthood and is present in a variety of contex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nterpers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disturb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feelings of empt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commit suic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put the symptoms into the daily liv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nvironmental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one’s childhood experienc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rsha Linehan: “BPD is caused by an interaction between biological factors and an "emotionally invalidating" childhood environment.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nd genetic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. seroto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natural chemical in the bra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.have more activation of the limbic system, an area in the brain that controls fear, anger, and 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ther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elp patients cope with their 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w doses of antipsychot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courage patients to gain additional soci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7:43:27Z</dcterms:created>
  <dc:creator>user</dc:creator>
  <dc:description/>
  <dc:language>en-US</dc:language>
  <cp:lastModifiedBy>user</cp:lastModifiedBy>
  <dcterms:modified xsi:type="dcterms:W3CDTF">2010-10-27T17:22:27Z</dcterms:modified>
  <cp:revision>11</cp:revision>
  <dc:subject/>
  <dc:title>Borderline Personality Disorder:</dc:title>
</cp:coreProperties>
</file>