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2CBE-128E-44E0-958C-6E13C172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0BC7-0591-4B8C-8644-FB8E5F28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0F10-F7A6-485E-BA2D-48703A33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BA05-9587-4AF6-B4AC-8AA1F583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602E-F737-4643-9316-F3C3EBBF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428-46C6-4345-9487-F5DC1FF7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62BE-626C-4CEB-BFB7-DEFB3970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E42-CC91-4A52-BFF8-DD6567B6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C693-4C01-4764-9355-0C4C631D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B07D-3A97-4FC6-A700-2A5FE831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7AA-4C7C-490C-B65B-52A34281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B138-2C96-4BB3-947E-1A98AEF9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582A-99EF-40C6-A532-5F1B3EDFA6C0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rderline Personality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allory and S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. When your close friend    unexpectedly calls off a meeting with you, would you bear an immediate hatred for her/h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 Do you have difficulties tolera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onel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. Feel insecure with relationships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. Do you have dramatic mood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appiness to melancho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. Do you have tendency of self-inju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derline Personality Disord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sych Central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“a pervasive pattern of instability of interpersonal relationships, self-image, and affects, and marked impulsivity that begins by early adulthood and is present in a variety of context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to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interpersonal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ty disturb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 in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nic feelings of empt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ency to commit suicid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put the symptoms into the daily live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nvironmental fac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ff5050"/>
                </a:solidFill>
                <a:latin typeface="Arial"/>
              </a:rPr>
              <a:t>one’s childhood experience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arsha Linehan: “BPD is caused by an interaction between biological factors and an "emotionally invalidating" childhood environment.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and genetic cau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1. seroton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natural chemical in the bra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2.have more activation of the limbic system, an area in the brain that controls fear, anger, and agg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therap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help patients cope with their ill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low doses of antipsychotic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hel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encourage patients to gain additional social sup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7:43:27Z</dcterms:created>
  <dc:creator>user</dc:creator>
  <dc:description/>
  <dc:language>en-US</dc:language>
  <cp:lastModifiedBy>user</cp:lastModifiedBy>
  <dcterms:modified xsi:type="dcterms:W3CDTF">2010-10-27T17:22:27Z</dcterms:modified>
  <cp:revision>11</cp:revision>
  <dc:subject/>
  <dc:title>Borderline Personality Disorder:</dc:title>
</cp:coreProperties>
</file>