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8ABA-7AE4-444D-A6F4-EF68F89A7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CFE6-19CE-4D9A-8DA1-84A728BD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F644-3485-40F3-B263-9394E37EA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FCB5-83F5-4D39-B34C-54E2F84BD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E95C-3E0B-4552-B07A-E2A37D53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A094-5266-485D-A9D2-03B7F37C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3EDB-7167-4B37-AEC4-F0467EE7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CCA5-33F7-48A2-8524-2175B77A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6A4F-A458-4896-BE6E-D69BFAF5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EC38-75B3-4F39-B88F-C38468B2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9183-79B7-4788-A037-1B265996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A7B9-0110-4945-8211-3ADED63B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45C7-1909-4083-8C86-DB3296E21134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rderline Personality Dis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allory and So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. When your close friend    unexpectedly calls off a meeting with you, would you bear an immediate hatred for her/hi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. Do you have difficulties tolera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lonel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. Feel insecure with relationships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. Do you have dramatic mood fr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happiness to melancho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. Do you have tendency of self-inju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rderline Personality Disorde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sych Central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“a pervasive pattern of instability of interpersonal relationships, self-image, and affects, and marked impulsivity that begins by early adulthood and is present in a variety of context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ptom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table interpersonal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ty disturb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otional ins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nic feelings of empt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dency to commit suicid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we put the symptoms into the daily lives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Environmental fact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3200" spc="-1" strike="noStrike">
                <a:solidFill>
                  <a:srgbClr val="ff5050"/>
                </a:solidFill>
                <a:latin typeface="Arial"/>
              </a:rPr>
              <a:t>one’s childhood experience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arsha Linehan: “BPD is caused by an interaction between biological factors and an "emotionally invalidating" childhood environment. 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cal and genetic cau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1. seroton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natural chemical in the brai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2.have more activation of the limbic system, an area in the brain that controls fear, anger, and aggres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at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ychotherap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help patients cope with their illn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low doses of antipsychotic dru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hel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encourage patients to gain additional social suppo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07:43:27Z</dcterms:created>
  <dc:creator>user</dc:creator>
  <dc:description/>
  <dc:language>en-US</dc:language>
  <cp:lastModifiedBy>user</cp:lastModifiedBy>
  <dcterms:modified xsi:type="dcterms:W3CDTF">2010-10-27T17:22:27Z</dcterms:modified>
  <cp:revision>11</cp:revision>
  <dc:subject/>
  <dc:title>Borderline Personality Disorder:</dc:title>
</cp:coreProperties>
</file>