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29C-4188-45B8-B01C-96C7E233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AE8-0E90-4C79-8953-25BDF31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357-965E-4A05-B753-B0205E32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22C-5E63-4702-99B6-182F2323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055-0438-4B04-A787-5DD02D6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97C-7D41-4FE8-AD91-D7067D3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015-A0AB-42B9-8B88-8A344B9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FAB-D651-4A48-9A25-9405DC18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8D5-DBA5-4C45-B7C3-500C828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58B-A7AD-4083-8397-13AEA4B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92C-358F-4C98-B6AE-0DF2E9B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2AF-87E8-443D-AA4B-A26019B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B138-CC3B-49CF-A835-F8AC57D3154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ine Personality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llory and S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When your close friend    unexpectedly calls off a meeting with you, would you bear an immediate hatred for her/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Do you have difficulties tole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nel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 Feel insecure with relationships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. Do you have dramatic moo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ppiness to melanch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. Do you have tendency of self-inju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line Personality Disord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sych Central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“a pervasive pattern of instability of interpersonal relationships, self-image, and affects, and marked impulsivity that begins by early adulthood and is present in a variety of contex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nterpersonal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disturb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feelings of empt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y to commit suic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put the symptoms into the daily liv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nvironmental fa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one’s childhood experienc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rsha Linehan: “BPD is caused by an interaction between biological factors and an "emotionally invalidating" childhood environment.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nd genetic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. seroton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natural chemical in the bra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.have more activation of the limbic system, an area in the brain that controls fear, anger, and aggr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thera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elp patients cope with their 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w doses of antipsychot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courage patients to gain additional soci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7:43:27Z</dcterms:created>
  <dc:creator>user</dc:creator>
  <dc:description/>
  <dc:language>en-US</dc:language>
  <cp:lastModifiedBy>user</cp:lastModifiedBy>
  <dcterms:modified xsi:type="dcterms:W3CDTF">2010-10-27T17:22:27Z</dcterms:modified>
  <cp:revision>11</cp:revision>
  <dc:subject/>
  <dc:title>Borderline Personality Disorder:</dc:title>
</cp:coreProperties>
</file>