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E4C-246B-45DB-B8B7-0936A166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C97-6476-424B-BBC5-00908C00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A7D-DBCB-473E-8459-C12A7302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6F9-0DD9-4428-A36A-9F1CC98B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614-78AB-4CBA-B211-79978240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A10-4C7A-4A0D-BAE3-B78C12BE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584-CF7C-44E3-B817-46698BD4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B03-996A-411E-8CD2-936E3935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12B-0A50-450A-A0D5-73CDF407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53B-C164-4A7B-AA2F-5C6921C2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AA8E-100F-492A-A9FC-93D208E0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5FB-E04F-420A-B71B-D08F4B4D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5762-4D1C-44EF-B632-D0B45A7E962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800" spc="-1" strike="noStrike">
                <a:solidFill>
                  <a:srgbClr val="ffffff"/>
                </a:solidFill>
                <a:latin typeface="Calibri"/>
              </a:rPr>
              <a:t>Empty se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98501069  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蔡佩育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Pen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98501067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吳奐均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J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t2.gstatic.com/images?q=tbn:ANd9GcSkBy8oRsVNyPeTjWAzfXrtSgd9Ygw_YwZg2FAmTCKp5b_sCxo&amp;t=1&amp;usg=__6EjD9ywkQfVl2IGqMoIFzMqaJck="/>
          <p:cNvPicPr/>
          <p:nvPr/>
        </p:nvPicPr>
        <p:blipFill>
          <a:blip r:embed="rId1"/>
          <a:stretch/>
        </p:blipFill>
        <p:spPr>
          <a:xfrm>
            <a:off x="0" y="3645000"/>
            <a:ext cx="4572000" cy="303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t1.gstatic.com/images?q=tbn:ANd9GcT6GTba4qm4xlpBWLUDYE6jRNodiJZwRkljU-w1XKt7wcaM72I&amp;t=1&amp;usg=__Ptin7a448joZUj2Bpk1zP24oJWc="/>
          <p:cNvPicPr/>
          <p:nvPr/>
        </p:nvPicPr>
        <p:blipFill>
          <a:blip r:embed="rId2"/>
          <a:stretch/>
        </p:blipFill>
        <p:spPr>
          <a:xfrm>
            <a:off x="5430960" y="3219480"/>
            <a:ext cx="3719520" cy="3389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t3.gstatic.com/images?q=tbn:znPjFUimIoFGQM:http://sparklette.net/archives/557/seafood.jpg&amp;t=1"/>
          <p:cNvPicPr/>
          <p:nvPr/>
        </p:nvPicPr>
        <p:blipFill>
          <a:blip r:embed="rId3"/>
          <a:stretch/>
        </p:blipFill>
        <p:spPr>
          <a:xfrm>
            <a:off x="324000" y="549360"/>
            <a:ext cx="3652560" cy="273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t1.gstatic.com/images?q=tbn:ANd9GcTOecl8zX8hZkGL1k4YQhPOCgwnIdcpX3jQUF0dI9iVbaUBnM8&amp;t=1&amp;usg=__uBCSCe2-cC9LiCOmO8rDmsyDhRw="/>
          <p:cNvPicPr/>
          <p:nvPr/>
        </p:nvPicPr>
        <p:blipFill>
          <a:blip r:embed="rId4"/>
          <a:stretch/>
        </p:blipFill>
        <p:spPr>
          <a:xfrm>
            <a:off x="3483000" y="333360"/>
            <a:ext cx="5661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357280" y="259920"/>
            <a:ext cx="6786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World cat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Reason: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Population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echnology  impro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Habit of e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Seafood print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Ocean food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Seafood Pr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Unbalanced Consumptio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Rich nations vs. Poor 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3" descr=""/>
          <p:cNvPicPr/>
          <p:nvPr/>
        </p:nvPicPr>
        <p:blipFill>
          <a:blip r:embed="rId1"/>
          <a:stretch/>
        </p:blipFill>
        <p:spPr>
          <a:xfrm>
            <a:off x="-30240" y="444600"/>
            <a:ext cx="10185480" cy="2457360"/>
          </a:xfrm>
          <a:prstGeom prst="rect">
            <a:avLst/>
          </a:prstGeom>
          <a:ln w="0">
            <a:noFill/>
          </a:ln>
        </p:spPr>
      </p:pic>
      <p:pic>
        <p:nvPicPr>
          <p:cNvPr id="49" name="矩形 4" descr=""/>
          <p:cNvPicPr/>
          <p:nvPr/>
        </p:nvPicPr>
        <p:blipFill>
          <a:blip r:embed="rId2"/>
          <a:stretch/>
        </p:blipFill>
        <p:spPr>
          <a:xfrm>
            <a:off x="360360" y="3681360"/>
            <a:ext cx="9058320" cy="2457360"/>
          </a:xfrm>
          <a:prstGeom prst="rect">
            <a:avLst/>
          </a:prstGeom>
          <a:ln w="0">
            <a:noFill/>
          </a:ln>
        </p:spPr>
      </p:pic>
      <p:pic>
        <p:nvPicPr>
          <p:cNvPr id="50" name="矩形 6" descr=""/>
          <p:cNvPicPr/>
          <p:nvPr/>
        </p:nvPicPr>
        <p:blipFill>
          <a:blip r:embed="rId3"/>
          <a:stretch/>
        </p:blipFill>
        <p:spPr>
          <a:xfrm>
            <a:off x="3840120" y="2286000"/>
            <a:ext cx="14572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  <a:ea typeface="新細明體"/>
            </a:endParaRPr>
          </a:p>
        </p:txBody>
      </p:sp>
      <p:pic>
        <p:nvPicPr>
          <p:cNvPr id="53" name="Picture 2" descr="http://t3.gstatic.com/images?q=tbn:ANd9GcSS1z1BzUZ7NgLa1ogwrYQLW2rzYheIKs-tLQp7VdwwCwNdu9w&amp;t=1&amp;usg=__KaMXtWquVv3sMAiv7kzDeaf1CPg="/>
          <p:cNvPicPr/>
          <p:nvPr/>
        </p:nvPicPr>
        <p:blipFill>
          <a:blip r:embed="rId1"/>
          <a:stretch/>
        </p:blipFill>
        <p:spPr>
          <a:xfrm>
            <a:off x="571680" y="1208160"/>
            <a:ext cx="7358040" cy="5360760"/>
          </a:xfrm>
          <a:prstGeom prst="rect">
            <a:avLst/>
          </a:prstGeom>
          <a:ln w="0">
            <a:noFill/>
          </a:ln>
        </p:spPr>
      </p:pic>
      <p:sp>
        <p:nvSpPr>
          <p:cNvPr id="54" name="文字方塊 4"/>
          <p:cNvSpPr/>
          <p:nvPr/>
        </p:nvSpPr>
        <p:spPr>
          <a:xfrm>
            <a:off x="642960" y="35712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Population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155520" y="-700200"/>
            <a:ext cx="1876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155520" y="-700200"/>
            <a:ext cx="1876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http://imagecache6.allposters.com/LRG/30/3075/NJVDF00Z.jpg"/>
          <p:cNvPicPr/>
          <p:nvPr/>
        </p:nvPicPr>
        <p:blipFill>
          <a:blip r:embed="rId1"/>
          <a:stretch/>
        </p:blipFill>
        <p:spPr>
          <a:xfrm>
            <a:off x="2357280" y="1214280"/>
            <a:ext cx="38577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Di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foodawards.massey.ac.nz/images/1990/001.jpg"/>
          <p:cNvPicPr/>
          <p:nvPr/>
        </p:nvPicPr>
        <p:blipFill>
          <a:blip r:embed="rId1"/>
          <a:stretch/>
        </p:blipFill>
        <p:spPr>
          <a:xfrm>
            <a:off x="1714680" y="1285920"/>
            <a:ext cx="535752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foei.org/en/resources/publications/annual-report/2007/images/foe-peru-fishing.jpg/image_preview"/>
          <p:cNvPicPr/>
          <p:nvPr/>
        </p:nvPicPr>
        <p:blipFill>
          <a:blip r:embed="rId1"/>
          <a:stretch/>
        </p:blipFill>
        <p:spPr>
          <a:xfrm>
            <a:off x="971640" y="62064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0:46:52Z</dcterms:created>
  <dc:creator>Éric Vadeboncoeur</dc:creator>
  <dc:description/>
  <dc:language>en-US</dc:language>
  <cp:lastModifiedBy>Penny</cp:lastModifiedBy>
  <dcterms:modified xsi:type="dcterms:W3CDTF">2010-10-27T12:12:42Z</dcterms:modified>
  <cp:revision>5</cp:revision>
  <dc:subject/>
  <dc:title>PRESENTATION  NAME</dc:title>
</cp:coreProperties>
</file>