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B77A-82C6-4B1F-B005-EFF506CE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75E-79E1-4CBD-8859-1D5EBB13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6EB-624E-4895-BA41-3432FD93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878-95A2-49EE-91D6-AF1257F1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3497-2989-4203-93CF-E8DF4E96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EF4-0B8F-4E9C-84D3-93D0B043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B1C-4B36-4254-8676-E427C819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6C61-C420-48FE-9E54-8FFE3796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318-FDA8-4909-94F6-D12BF8BA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62D-8CB3-4351-81BB-A2A92E37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9934-733A-42BC-BBFD-A0FC2A26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F33D-3F3C-42C3-BDBA-B7187A7F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406A-8E10-49DB-9F61-06C007641C5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800" spc="-1" strike="noStrike">
                <a:solidFill>
                  <a:srgbClr val="ffffff"/>
                </a:solidFill>
                <a:latin typeface="Calibri"/>
              </a:rPr>
              <a:t>Empty se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98501069  </a:t>
            </a:r>
            <a:r>
              <a:rPr b="0" lang="zh-TW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蔡佩育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Pen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98501067</a:t>
            </a:r>
            <a:r>
              <a:rPr b="0" lang="zh-TW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吳奐均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Ju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http://t2.gstatic.com/images?q=tbn:ANd9GcSkBy8oRsVNyPeTjWAzfXrtSgd9Ygw_YwZg2FAmTCKp5b_sCxo&amp;t=1&amp;usg=__6EjD9ywkQfVl2IGqMoIFzMqaJck="/>
          <p:cNvPicPr/>
          <p:nvPr/>
        </p:nvPicPr>
        <p:blipFill>
          <a:blip r:embed="rId1"/>
          <a:stretch/>
        </p:blipFill>
        <p:spPr>
          <a:xfrm>
            <a:off x="0" y="3645000"/>
            <a:ext cx="4572000" cy="303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t1.gstatic.com/images?q=tbn:ANd9GcT6GTba4qm4xlpBWLUDYE6jRNodiJZwRkljU-w1XKt7wcaM72I&amp;t=1&amp;usg=__Ptin7a448joZUj2Bpk1zP24oJWc="/>
          <p:cNvPicPr/>
          <p:nvPr/>
        </p:nvPicPr>
        <p:blipFill>
          <a:blip r:embed="rId2"/>
          <a:stretch/>
        </p:blipFill>
        <p:spPr>
          <a:xfrm>
            <a:off x="5430960" y="3219480"/>
            <a:ext cx="3719520" cy="3389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t3.gstatic.com/images?q=tbn:znPjFUimIoFGQM:http://sparklette.net/archives/557/seafood.jpg&amp;t=1"/>
          <p:cNvPicPr/>
          <p:nvPr/>
        </p:nvPicPr>
        <p:blipFill>
          <a:blip r:embed="rId3"/>
          <a:stretch/>
        </p:blipFill>
        <p:spPr>
          <a:xfrm>
            <a:off x="324000" y="549360"/>
            <a:ext cx="3652560" cy="273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t1.gstatic.com/images?q=tbn:ANd9GcTOecl8zX8hZkGL1k4YQhPOCgwnIdcpX3jQUF0dI9iVbaUBnM8&amp;t=1&amp;usg=__uBCSCe2-cC9LiCOmO8rDmsyDhRw="/>
          <p:cNvPicPr/>
          <p:nvPr/>
        </p:nvPicPr>
        <p:blipFill>
          <a:blip r:embed="rId4"/>
          <a:stretch/>
        </p:blipFill>
        <p:spPr>
          <a:xfrm>
            <a:off x="3483000" y="333360"/>
            <a:ext cx="5661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357280" y="259920"/>
            <a:ext cx="6786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World cat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Reason: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Population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Technology  impro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Habit of e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Seafood print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 Ocean food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 Seafood Pr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Unbalanced Consumption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 Rich nations vs. Poor 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3" descr=""/>
          <p:cNvPicPr/>
          <p:nvPr/>
        </p:nvPicPr>
        <p:blipFill>
          <a:blip r:embed="rId1"/>
          <a:stretch/>
        </p:blipFill>
        <p:spPr>
          <a:xfrm>
            <a:off x="-30240" y="444600"/>
            <a:ext cx="10185480" cy="2457360"/>
          </a:xfrm>
          <a:prstGeom prst="rect">
            <a:avLst/>
          </a:prstGeom>
          <a:ln w="0">
            <a:noFill/>
          </a:ln>
        </p:spPr>
      </p:pic>
      <p:pic>
        <p:nvPicPr>
          <p:cNvPr id="49" name="矩形 4" descr=""/>
          <p:cNvPicPr/>
          <p:nvPr/>
        </p:nvPicPr>
        <p:blipFill>
          <a:blip r:embed="rId2"/>
          <a:stretch/>
        </p:blipFill>
        <p:spPr>
          <a:xfrm>
            <a:off x="360360" y="3681360"/>
            <a:ext cx="9058320" cy="2457360"/>
          </a:xfrm>
          <a:prstGeom prst="rect">
            <a:avLst/>
          </a:prstGeom>
          <a:ln w="0">
            <a:noFill/>
          </a:ln>
        </p:spPr>
      </p:pic>
      <p:pic>
        <p:nvPicPr>
          <p:cNvPr id="50" name="矩形 6" descr=""/>
          <p:cNvPicPr/>
          <p:nvPr/>
        </p:nvPicPr>
        <p:blipFill>
          <a:blip r:embed="rId3"/>
          <a:stretch/>
        </p:blipFill>
        <p:spPr>
          <a:xfrm>
            <a:off x="3840120" y="2286000"/>
            <a:ext cx="14572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  <a:ea typeface="新細明體"/>
            </a:endParaRPr>
          </a:p>
        </p:txBody>
      </p:sp>
      <p:pic>
        <p:nvPicPr>
          <p:cNvPr id="53" name="Picture 2" descr="http://t3.gstatic.com/images?q=tbn:ANd9GcSS1z1BzUZ7NgLa1ogwrYQLW2rzYheIKs-tLQp7VdwwCwNdu9w&amp;t=1&amp;usg=__KaMXtWquVv3sMAiv7kzDeaf1CPg="/>
          <p:cNvPicPr/>
          <p:nvPr/>
        </p:nvPicPr>
        <p:blipFill>
          <a:blip r:embed="rId1"/>
          <a:stretch/>
        </p:blipFill>
        <p:spPr>
          <a:xfrm>
            <a:off x="571680" y="1208160"/>
            <a:ext cx="7358040" cy="5360760"/>
          </a:xfrm>
          <a:prstGeom prst="rect">
            <a:avLst/>
          </a:prstGeom>
          <a:ln w="0">
            <a:noFill/>
          </a:ln>
        </p:spPr>
      </p:pic>
      <p:sp>
        <p:nvSpPr>
          <p:cNvPr id="54" name="文字方塊 4"/>
          <p:cNvSpPr/>
          <p:nvPr/>
        </p:nvSpPr>
        <p:spPr>
          <a:xfrm>
            <a:off x="642960" y="35712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Population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新細明體"/>
              </a:rPr>
              <a:t>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2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155520" y="-700200"/>
            <a:ext cx="1876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155520" y="-700200"/>
            <a:ext cx="1876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http://imagecache6.allposters.com/LRG/30/3075/NJVDF00Z.jpg"/>
          <p:cNvPicPr/>
          <p:nvPr/>
        </p:nvPicPr>
        <p:blipFill>
          <a:blip r:embed="rId1"/>
          <a:stretch/>
        </p:blipFill>
        <p:spPr>
          <a:xfrm>
            <a:off x="2357280" y="1214280"/>
            <a:ext cx="385776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新細明體"/>
              </a:rPr>
              <a:t>Di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foodawards.massey.ac.nz/images/1990/001.jpg"/>
          <p:cNvPicPr/>
          <p:nvPr/>
        </p:nvPicPr>
        <p:blipFill>
          <a:blip r:embed="rId1"/>
          <a:stretch/>
        </p:blipFill>
        <p:spPr>
          <a:xfrm>
            <a:off x="1714680" y="1285920"/>
            <a:ext cx="535752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foei.org/en/resources/publications/annual-report/2007/images/foe-peru-fishing.jpg/image_preview"/>
          <p:cNvPicPr/>
          <p:nvPr/>
        </p:nvPicPr>
        <p:blipFill>
          <a:blip r:embed="rId1"/>
          <a:stretch/>
        </p:blipFill>
        <p:spPr>
          <a:xfrm>
            <a:off x="971640" y="620640"/>
            <a:ext cx="72864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0:46:52Z</dcterms:created>
  <dc:creator>Éric Vadeboncoeur</dc:creator>
  <dc:description/>
  <dc:language>en-US</dc:language>
  <cp:lastModifiedBy>Penny</cp:lastModifiedBy>
  <dcterms:modified xsi:type="dcterms:W3CDTF">2010-10-27T12:12:42Z</dcterms:modified>
  <cp:revision>5</cp:revision>
  <dc:subject/>
  <dc:title>PRESENTATION  NAME</dc:title>
</cp:coreProperties>
</file>