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FE7C8-C0E3-4031-A248-C18CA96C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7384E-E3B9-4F8B-9A7A-41552A75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7AB85-C377-4BF7-9861-57E13522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132FF-B93C-44E3-9438-5A84400A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29C5-E62F-4423-AA3E-DF6A3A2A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FE1A-948E-4817-9D23-8C948DD5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5F4F-50CD-4DA6-A93D-A6BDAB67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B460-D7A9-4744-ADF9-7C2CDB50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4145-52FE-4DB4-8D58-8C156F77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4C4B-D278-48F5-8B01-E3620106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835B-08EB-4A32-B9BC-BA9363F2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B6667-B0B4-4FF7-B68F-27DCC9A1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0C44-F350-4B48-8119-F1EFF8FF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80FC-A4CC-4AAD-B509-F8FD5E92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02D2-6A4F-4CB0-AF89-7E8A6BDC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22EC-0549-49FD-89E3-2980097D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952E-C962-42C9-A50C-B84F46A9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C4852-6B2E-494B-BE11-1161851A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FD897-8567-4CD4-A5EA-AA3E2FDA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BC8FA-B711-4268-ACD1-33B68085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A6B4E-045D-4B84-90E6-648E3201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80268-EB1C-47CE-A7B8-0F8BC08D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4B1CA-1FD3-47EA-9F12-6371A612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C9B73-3FD6-45E8-B241-FCB53A9D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D696-DAB4-4C9D-8A9A-11070F0245CD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3FB1-28F8-48A1-A335-2A7FE737A955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lasticsurgery.org/" TargetMode="External"/><Relationship Id="rId2" Type="http://schemas.openxmlformats.org/officeDocument/2006/relationships/hyperlink" Target="http://www.plasticsurgery.org/" TargetMode="External"/><Relationship Id="rId3" Type="http://schemas.openxmlformats.org/officeDocument/2006/relationships/hyperlink" Target="http://www.plasticsurgery.org/" TargetMode="External"/><Relationship Id="rId4" Type="http://schemas.openxmlformats.org/officeDocument/2006/relationships/hyperlink" Target="http://kidshealth.org/teen/your_mind/body_image/plastic_surgery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ni and Micro Procedures in Plastic Surgery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Sara 9850105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Rita 9850106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er Resurfa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20000" cy="441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16720" cy="3517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er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0" r="50013" b="359"/>
          <a:stretch/>
        </p:blipFill>
        <p:spPr>
          <a:xfrm>
            <a:off x="3635280" y="2565360"/>
            <a:ext cx="1871640" cy="26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3816360" cy="3672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50920" y="-1395360"/>
            <a:ext cx="6402600" cy="8253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12 Asian countries 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Thai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Korea, Jap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ng Kong, Chin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Singapore ,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donesia, Malays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hilippines ,Vietna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aiwan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3500280"/>
            <a:ext cx="2665440" cy="1873440"/>
          </a:xfrm>
          <a:prstGeom prst="wedgeRoundRectCallout">
            <a:avLst>
              <a:gd name="adj1" fmla="val -43745"/>
              <a:gd name="adj2" fmla="val 753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2990880" cy="6597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5473800" cy="3421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547640" y="1413000"/>
            <a:ext cx="6409080" cy="343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&amp;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ranches Of Th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Learn more about anti-aging and skincare"/>
          <p:cNvPicPr/>
          <p:nvPr/>
        </p:nvPicPr>
        <p:blipFill>
          <a:blip r:embed="rId1"/>
          <a:stretch/>
        </p:blipFill>
        <p:spPr>
          <a:xfrm>
            <a:off x="324000" y="2216160"/>
            <a:ext cx="4295520" cy="3378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Learn more about facelift and related procedures"/>
          <p:cNvPicPr/>
          <p:nvPr/>
        </p:nvPicPr>
        <p:blipFill>
          <a:blip r:embed="rId2"/>
          <a:stretch/>
        </p:blipFill>
        <p:spPr>
          <a:xfrm>
            <a:off x="3995640" y="2205000"/>
            <a:ext cx="4295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plasticsurgery.org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yourplasticsurgeryguid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shs.edu.tw/works/essay/2008/03/2008033106573383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n.wikipedia.org/wiki/Electronic_portfolio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kidshealth.org/teen/your_mind/body_image/plastic_surge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hiway.pixnet.net/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O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” and “mini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ini face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Learn more about cosmetic plastic surgery"/>
          <p:cNvPicPr/>
          <p:nvPr/>
        </p:nvPicPr>
        <p:blipFill>
          <a:blip r:embed="rId1"/>
          <a:stretch/>
        </p:blipFill>
        <p:spPr>
          <a:xfrm>
            <a:off x="1979640" y="1700280"/>
            <a:ext cx="5159520" cy="4064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Learn more about facelifts"/>
          <p:cNvPicPr/>
          <p:nvPr/>
        </p:nvPicPr>
        <p:blipFill>
          <a:blip r:embed="rId2"/>
          <a:stretch/>
        </p:blipFill>
        <p:spPr>
          <a:xfrm>
            <a:off x="1979640" y="1700280"/>
            <a:ext cx="5160960" cy="405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What is the cost of liposuction?"/>
          <p:cNvPicPr/>
          <p:nvPr/>
        </p:nvPicPr>
        <p:blipFill>
          <a:blip r:embed="rId3"/>
          <a:stretch/>
        </p:blipFill>
        <p:spPr>
          <a:xfrm>
            <a:off x="1979640" y="1700280"/>
            <a:ext cx="5162400" cy="4060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微整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smetic surgery (Aesthetic plastic surg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pos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cro plastic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 plastic surg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1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ess pain an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horter recove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ess postoperative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atural l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or re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2637000"/>
            <a:ext cx="6480360" cy="13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y so many people are cr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bout the surg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6:33:32Z</dcterms:created>
  <dc:creator>sara</dc:creator>
  <dc:description/>
  <dc:language>en-US</dc:language>
  <cp:lastModifiedBy>shinwei</cp:lastModifiedBy>
  <dcterms:modified xsi:type="dcterms:W3CDTF">2010-10-27T16:46:28Z</dcterms:modified>
  <cp:revision>11</cp:revision>
  <dc:subject/>
  <dc:title>投影片 1</dc:title>
</cp:coreProperties>
</file>