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AC98-B0B9-4D3E-B9B6-841DCC53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E114-6228-4102-8B27-864D510C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BFA2-6EDE-4E80-BC62-95EEF12B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C22B-0223-46A0-9774-FA2A716B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E49B-F28B-429F-AD4F-DDD36F6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22DF-3E1D-4903-85D3-2B0B94F1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4E84-E379-45E8-B8DC-FE36AAAF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77C9-DD5C-4B4D-9F95-6FA86E5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8341-1F87-4365-9FE9-935B24FA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2D5C-0105-4375-ADC5-E6B49A48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E839-6F12-4714-8C55-AA6C8FA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71AA-2E0E-4E0F-AF47-DA7E2962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DA05-6A76-4685-A065-2826A38C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D77D-7682-4649-B8A6-FB4F076B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1366-05E2-4EEB-83F9-2AF06A35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A8B5-AF7F-4C61-B901-36A33F12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EE45-F405-4DA4-B8F4-5647F108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6188-259C-436D-9B8B-0878E8C8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3E56-535B-4691-B140-9C55B67C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7189-BD97-4C5F-B7F2-8BDDB943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8DE3-F003-4586-9A66-3163D479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97C6-E7F7-4BE8-82CC-F11BD40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0407-4D3C-42A5-B1C0-E8ACBA4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B2FF-BE33-4DAD-BE49-ACFAA20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B29D-6177-436F-92CF-971C60F5801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9CDE-5935-4C2E-90FA-9C28D8ACF24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46:28Z</dcterms:modified>
  <cp:revision>11</cp:revision>
  <dc:subject/>
  <dc:title>投影片 1</dc:title>
</cp:coreProperties>
</file>