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CDF3-BF9A-400C-9A8F-91F84326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0C66-3851-4720-86D8-45A1E15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4E76-DCE1-4856-A86B-69EA75E1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A42A-37DB-4434-9169-9ED58C5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95C4-396C-49DF-BECD-217E22D5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1F63-CBB7-4834-8A24-A325E00D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CF3D-7B5B-48E9-B7BB-A2B0576D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FE3C-1783-4D79-83A4-8076820E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C428-11AB-4321-863C-2F073F7F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D6B7-DEF8-4424-8ADF-1F2A80A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095-0A85-47A0-A938-FD64EC3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970D-0215-4505-AEAE-2A36EF82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01E-8969-4581-B8B2-C47F90F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2681-A1F8-40A7-A926-D3B4E85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B8F2-CE53-4189-82F0-ECBE60F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72F1-C487-47C6-88F5-9020CEFC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4514-2BE0-4941-B292-6485685A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2BEE-56DD-4141-8102-DF3EDB76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5D8F-2258-44E2-A4A2-F763567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D5DC-6E8E-4974-BE60-385DE6E0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1DFD-869A-4C20-B818-37EB03F0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D446-BB2D-4977-8D6C-BC866B57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10AC-C158-412B-B02F-20BDAD37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992B-E51C-40FE-8EB0-58C0765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E04F-2FEF-496D-A685-14DCF2F2766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4B8C-632F-409F-B918-062F2B69C82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46:28Z</dcterms:modified>
  <cp:revision>11</cp:revision>
  <dc:subject/>
  <dc:title>投影片 1</dc:title>
</cp:coreProperties>
</file>