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D1DD-796D-4A98-886C-CCB95AEB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AB99-B15F-4B6A-A324-55E8D457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71B3-A76E-4D9B-B9C9-78890874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2745-B4EB-4E58-8633-B1C52E6A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19FA-6C05-4469-B137-4DA76988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AE4E-497F-45D4-AB61-E4D5656A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D034-B40B-4DD6-AF0E-913C566C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CF7-D6D0-4C70-A85D-5AB2259E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49AD-FFC4-4A5B-9924-35EF436E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4A3C-A7F3-4F73-8726-F8E3A464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251E-AB1F-4300-BA42-1BF07BC9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6E5F-31E4-41C0-9CAA-F189CE49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8300-CB12-40DC-A86C-24400DD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5D2C-9FBB-4B5E-AD10-7ACCC389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B2B2-9AB5-4892-B081-7330F818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EA97-0DD8-4618-A76D-0B89AB24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18A7-8341-4155-B990-FC7638D9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469C-5DF0-4BFF-B2FA-AE0CF684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86849-26DA-41DD-B925-1AED4BDA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D770-6D0D-478E-A1F7-213C9183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9C95-04B8-4FC2-9DBD-FCF9586A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196F-6C8B-4FB5-8802-D8F7CDF2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AB0E-CC71-4AAA-AE56-C964F728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6C5D-E194-4BF7-9E39-F1223D7F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B44C-12DC-4CE3-9DDD-513167940C2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19BF-BAF9-4DFF-B9A7-79DD3D124B8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0920" y="-1395360"/>
            <a:ext cx="640260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7T16:46:28Z</dcterms:modified>
  <cp:revision>11</cp:revision>
  <dc:subject/>
  <dc:title>投影片 1</dc:title>
</cp:coreProperties>
</file>