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8200D-5FE2-42E0-A098-10A5E4F0F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CC18F-14C0-498B-A1B4-93287157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4DECE-5B24-4CFD-BF01-7B2D20AA8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919F7-A965-4D2F-A100-5B61CAAA0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E8EC-7B0F-4351-954B-321E45B9B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47DD-1D90-49C6-AE74-2BBAF4C6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0D81-0BF9-40A0-BACA-E7FDFB11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3762-6216-462F-BDF4-3A1C3ED1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4219-93F7-4B23-B7D9-F3765C77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4D8E-119B-4347-BDA4-03D78338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ADFA-D2B6-4738-9EDD-74EF698D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F662A-3C0D-40AA-AD56-171C01A2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7DCD-CDC7-4E45-A435-CE13A580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F9AF-D568-4056-9DD1-AA40AB52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9CB5-97A7-4BBE-921E-335D738C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5442-0C61-4CA3-B3C4-F35B2687D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7157-37B6-473B-95BE-F6623CA19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901B5-F3A6-4887-BE41-1FC51B3E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B5DA6-448E-42A5-862D-C63F5115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6C668-C1FE-4CD5-B209-BC5402DB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E0589-5F2A-445F-8113-1A1B3952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9129F-715B-4C83-96BD-5BB129B0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7B7B1-2DB3-4885-B104-F6BBECF5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B2B20-B91C-4A53-A5A3-BA77AF96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EDE0-8768-410F-B6ED-9355ECE3A315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B1A7-6608-44D4-8BB2-4C273C78B53B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plasticsurgery.org/" TargetMode="External"/><Relationship Id="rId2" Type="http://schemas.openxmlformats.org/officeDocument/2006/relationships/hyperlink" Target="http://www.plasticsurgery.org/" TargetMode="External"/><Relationship Id="rId3" Type="http://schemas.openxmlformats.org/officeDocument/2006/relationships/hyperlink" Target="http://www.plasticsurgery.org/" TargetMode="External"/><Relationship Id="rId4" Type="http://schemas.openxmlformats.org/officeDocument/2006/relationships/hyperlink" Target="http://kidshealth.org/teen/your_mind/body_image/plastic_surgery.html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ini and Micro Procedures in Plastic Surgery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763640" y="429264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"/>
              </a:rPr>
              <a:t>Sara 9850105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"/>
              </a:rPr>
              <a:t>Rita 9850106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he Injection of Hyaluronic Ac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pplication of Las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Laser Resurfac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882000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316720" cy="35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er Therap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0" t="0" r="50013" b="359"/>
          <a:stretch/>
        </p:blipFill>
        <p:spPr>
          <a:xfrm>
            <a:off x="3635280" y="2565360"/>
            <a:ext cx="18716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56000" y="2421000"/>
            <a:ext cx="3816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50920" y="-1395360"/>
            <a:ext cx="6402600" cy="82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5761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12 Asian countries 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Thaila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Korea, Japa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Hong Kong, Chin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Singapore ,In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Indonesia, Malaysi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Philippines ,Vietnam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Taiwan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92720" y="3500280"/>
            <a:ext cx="2665440" cy="1873440"/>
          </a:xfrm>
          <a:prstGeom prst="wedgeRoundRectCallout">
            <a:avLst>
              <a:gd name="adj1" fmla="val -43745"/>
              <a:gd name="adj2" fmla="val 7533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.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299088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472000" cy="3421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979640" y="1413000"/>
            <a:ext cx="5473800" cy="3421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1547640" y="1413000"/>
            <a:ext cx="640908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main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&amp; Synony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Branches Of The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Learn more about anti-aging and skincare"/>
          <p:cNvPicPr/>
          <p:nvPr/>
        </p:nvPicPr>
        <p:blipFill>
          <a:blip r:embed="rId1"/>
          <a:stretch/>
        </p:blipFill>
        <p:spPr>
          <a:xfrm>
            <a:off x="324000" y="2216160"/>
            <a:ext cx="4295520" cy="33782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Learn more about facelift and related procedures"/>
          <p:cNvPicPr/>
          <p:nvPr/>
        </p:nvPicPr>
        <p:blipFill>
          <a:blip r:embed="rId2"/>
          <a:stretch/>
        </p:blipFill>
        <p:spPr>
          <a:xfrm>
            <a:off x="3995640" y="2205000"/>
            <a:ext cx="42958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plasticsurgery.org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yourplasticsurgeryguide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shs.edu.tw/works/essay/2008/03/2008033106573383.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en.wikipedia.org/wiki/Electronic_portfolio 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kidshealth.org/teen/your_mind/body_image/plastic_surgery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ehiway.pixnet.net/b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O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342864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3141360"/>
            <a:ext cx="822960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” and “mini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in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Mini facel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Learn more about cosmetic plastic surgery"/>
          <p:cNvPicPr/>
          <p:nvPr/>
        </p:nvPicPr>
        <p:blipFill>
          <a:blip r:embed="rId1"/>
          <a:stretch/>
        </p:blipFill>
        <p:spPr>
          <a:xfrm>
            <a:off x="1979640" y="1700280"/>
            <a:ext cx="5159520" cy="4064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Learn more about facelifts"/>
          <p:cNvPicPr/>
          <p:nvPr/>
        </p:nvPicPr>
        <p:blipFill>
          <a:blip r:embed="rId2"/>
          <a:stretch/>
        </p:blipFill>
        <p:spPr>
          <a:xfrm>
            <a:off x="1979640" y="1700280"/>
            <a:ext cx="5160960" cy="4059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What is the cost of liposuction?"/>
          <p:cNvPicPr/>
          <p:nvPr/>
        </p:nvPicPr>
        <p:blipFill>
          <a:blip r:embed="rId3"/>
          <a:stretch/>
        </p:blipFill>
        <p:spPr>
          <a:xfrm>
            <a:off x="1979640" y="1700280"/>
            <a:ext cx="5162400" cy="4060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ony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微整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osmetic surgery (Aesthetic plastic surge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Lipos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cro plastic 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ni plastic surg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animClr clrSpc="rgb">
                                      <p:cBhvr>
                                        <p:cTn id="1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set>
                                      <p:cBhvr>
                                        <p:cTn id="1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Less pain and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horter recovery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Less postoperative c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Natural loo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nor re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63640" y="2637000"/>
            <a:ext cx="6480360" cy="1366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hy so many people are craz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bout the surg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6:33:32Z</dcterms:created>
  <dc:creator>sara</dc:creator>
  <dc:description/>
  <dc:language>en-US</dc:language>
  <cp:lastModifiedBy>shinwei</cp:lastModifiedBy>
  <dcterms:modified xsi:type="dcterms:W3CDTF">2010-10-27T16:19:46Z</dcterms:modified>
  <cp:revision>10</cp:revision>
  <dc:subject/>
  <dc:title>投影片 1</dc:title>
</cp:coreProperties>
</file>