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1427-75C3-446B-959A-0762745F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9DD16-FDF4-4D71-A163-C0CA9BE6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4A92-3B27-470F-9129-0E86719E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BF9C1-67BA-45CD-8B90-B816C041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86C9-44C4-4282-8356-36B9F911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B817-7900-40F8-8984-DFD281C0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40E3-EF17-420C-8A6C-2A5E6C36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217F-7AF0-48D8-8B03-65D15CA4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94F2-D218-4035-82DA-57BED390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AFE3-07C0-468F-B235-4FE86D6D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EA67-A8A2-430D-8678-16662991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8F13-BCF1-4D7A-9B0B-562A4E3D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7C4A-25EF-4727-9753-A4F0D102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CD23-75C6-4B78-B3CA-749FAB46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8E9F-266A-40FE-87D9-20163517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D015-0B0B-4F89-823B-FCFD6CCC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58B8-A940-40C3-B6F7-AF2D01F0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23EC-D77F-4466-9BFF-2F497407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A62A-C92C-4C59-8D90-7C92E6F4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35C5-E2CC-4549-B524-501BF868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5737-17C5-4FB4-8F4A-95251C0A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855A-07C6-48EE-AC35-76321B99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85AC-86D4-4C43-95D7-D7EE6865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906D-54D0-4B19-ABB4-3DD4C878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BA34-4D72-4829-86F2-0C5C33097E9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7153-AB70-4D96-8A89-6FA928E20470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0920" y="-1395360"/>
            <a:ext cx="6402600" cy="82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O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7T16:19:46Z</dcterms:modified>
  <cp:revision>10</cp:revision>
  <dc:subject/>
  <dc:title>投影片 1</dc:title>
</cp:coreProperties>
</file>