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96E29-B020-47C0-B5EF-B0027FFE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D4370-6C4B-41C6-B1E2-94504987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4C1DB-97A8-495D-8F98-1DC93290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49D60-E8B5-431C-9C4B-84879E00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BD65-D118-46E8-9D61-F7BB19EC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1B52-0FDF-4F28-9019-FC7138E3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C455-F49F-48AE-86EB-4F22C086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D048-1043-4172-B7C0-4A253219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1F70-C978-4981-A020-CECEF925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B019-8DD8-4585-9C73-9CC711F4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3310-7956-45E9-802E-E903B667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C5847-E725-45FF-BA64-27800871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9EB6-D0E7-4E00-A318-599CE211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D8E3-D1C2-4970-BB23-9E30A429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579D-AFA0-4A8C-9F60-29990AAE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5D8A-EA95-40DB-94AA-C456F85A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A14A-320B-4EB1-92AE-6E155616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A19B2-9CF6-4512-825D-4D4BE6B3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4D1F3-318C-419C-B087-F9EED025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9DFD4-9E5C-41A3-8BAC-59783786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EA742-C623-47B9-ABA3-38C6DD0F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F9C8D-CCD1-4439-B19D-430360C1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6D196-7B5B-4FB2-BCB3-A764BB88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E8722-3BC5-417B-BB5D-5D415290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71A5-7814-497F-93F4-12A71F96DD29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88EB-BCA1-47AD-8F8C-6B4D71D78D0A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lasticsurgery.org/" TargetMode="External"/><Relationship Id="rId2" Type="http://schemas.openxmlformats.org/officeDocument/2006/relationships/hyperlink" Target="http://www.plasticsurgery.org/" TargetMode="External"/><Relationship Id="rId3" Type="http://schemas.openxmlformats.org/officeDocument/2006/relationships/hyperlink" Target="http://www.plasticsurgery.org/" TargetMode="External"/><Relationship Id="rId4" Type="http://schemas.openxmlformats.org/officeDocument/2006/relationships/hyperlink" Target="http://kidshealth.org/teen/your_mind/body_image/plastic_surgery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ini and Micro Procedures in Plastic Surgery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6364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Sara 9850105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Rita 9850106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er Resurfa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82000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16720" cy="35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er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0" r="50013" b="359"/>
          <a:stretch/>
        </p:blipFill>
        <p:spPr>
          <a:xfrm>
            <a:off x="3635280" y="2565360"/>
            <a:ext cx="1871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3816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50920" y="-1395360"/>
            <a:ext cx="6402600" cy="82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576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12 Asian countries 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Thaila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Korea, Jap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ng Kong, Chin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Singapore ,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donesia, Malays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hilippines ,Vietna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aiwan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3500280"/>
            <a:ext cx="2665440" cy="1873440"/>
          </a:xfrm>
          <a:prstGeom prst="wedgeRoundRectCallout">
            <a:avLst>
              <a:gd name="adj1" fmla="val -43745"/>
              <a:gd name="adj2" fmla="val 753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29908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3421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5473800" cy="3421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547640" y="1413000"/>
            <a:ext cx="640908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&amp;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ranches Of Th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Learn more about anti-aging and skincare"/>
          <p:cNvPicPr/>
          <p:nvPr/>
        </p:nvPicPr>
        <p:blipFill>
          <a:blip r:embed="rId1"/>
          <a:stretch/>
        </p:blipFill>
        <p:spPr>
          <a:xfrm>
            <a:off x="324000" y="2216160"/>
            <a:ext cx="4295520" cy="3378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Learn more about facelift and related procedures"/>
          <p:cNvPicPr/>
          <p:nvPr/>
        </p:nvPicPr>
        <p:blipFill>
          <a:blip r:embed="rId2"/>
          <a:stretch/>
        </p:blipFill>
        <p:spPr>
          <a:xfrm>
            <a:off x="3995640" y="2205000"/>
            <a:ext cx="4295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plasticsurgery.org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yourplasticsurgeryguid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shs.edu.tw/works/essay/2008/03/2008033106573383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n.wikipedia.org/wiki/Electronic_portfolio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kidshealth.org/teen/your_mind/body_image/plastic_surger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hiway.pixnet.net/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O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” and “mini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Mini face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Learn more about cosmetic plastic surgery"/>
          <p:cNvPicPr/>
          <p:nvPr/>
        </p:nvPicPr>
        <p:blipFill>
          <a:blip r:embed="rId1"/>
          <a:stretch/>
        </p:blipFill>
        <p:spPr>
          <a:xfrm>
            <a:off x="1979640" y="1700280"/>
            <a:ext cx="5159520" cy="4064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Learn more about facelifts"/>
          <p:cNvPicPr/>
          <p:nvPr/>
        </p:nvPicPr>
        <p:blipFill>
          <a:blip r:embed="rId2"/>
          <a:stretch/>
        </p:blipFill>
        <p:spPr>
          <a:xfrm>
            <a:off x="1979640" y="1700280"/>
            <a:ext cx="5160960" cy="405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What is the cost of liposuction?"/>
          <p:cNvPicPr/>
          <p:nvPr/>
        </p:nvPicPr>
        <p:blipFill>
          <a:blip r:embed="rId3"/>
          <a:stretch/>
        </p:blipFill>
        <p:spPr>
          <a:xfrm>
            <a:off x="1979640" y="1700280"/>
            <a:ext cx="5162400" cy="4060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微整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smetic surgery (Aesthetic plastic surg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pos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cro plastic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 plastic surg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1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ess pain and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horter recove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ess postoperative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atural l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or re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2637000"/>
            <a:ext cx="6480360" cy="1366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hy so many people are cra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bout the surg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6:33:32Z</dcterms:created>
  <dc:creator>sara</dc:creator>
  <dc:description/>
  <dc:language>en-US</dc:language>
  <cp:lastModifiedBy>shinwei</cp:lastModifiedBy>
  <dcterms:modified xsi:type="dcterms:W3CDTF">2010-10-27T16:19:46Z</dcterms:modified>
  <cp:revision>10</cp:revision>
  <dc:subject/>
  <dc:title>投影片 1</dc:title>
</cp:coreProperties>
</file>