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gif" ContentType="image/gif"/>
  <Override PartName="/ppt/media/image12.jpeg" ContentType="image/jpeg"/>
  <Override PartName="/ppt/media/image15.jpeg" ContentType="image/jpeg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961B75-A5CF-421F-820D-D04390DF1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75C898-ED24-4E76-97AE-15A54BF79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BEBDE7-FC18-4701-A7F8-DFB84B756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F7FDF5-EE89-49D7-AB83-41E312732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36531-D04A-480F-BC93-5565CA989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CA431-9C0A-4AF5-9046-BC34145DC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F08F7-505E-4A1B-B7D8-9582690DC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1B9B6-79DF-4110-B402-4C37C239E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7E7FD-556B-4CDB-BBEF-2A1C668AD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06A2C-51E3-4F34-A9ED-F9C95A3C6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9A3FC-669D-418C-9D5A-45B15AF71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C30621-CEC0-416C-B77E-D2AF57799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EA6F0-6B32-48BF-9124-D5B1720AE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DF6A7-B319-4C62-93BB-8B915EEF9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DD608-E2EE-465D-BA5D-93ABD5F58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D9439-FC54-402D-BCB7-6BA326088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F0B3F-3CD2-403D-9DB4-1450BB9DB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69F5A7-656E-4C7D-A9C9-8F070F1DD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2CB09A-9F6E-4CEC-B1A6-513E56E4E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856FE5-179D-4057-B468-2E593E1FA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3BC90A-19AF-418B-8953-483799498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C82EAA-9E48-4278-8957-0D08964CF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F0C746-2963-4588-B5E3-32FCF098D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233946-BF8F-41C0-B483-288CDD9D0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D9233-9E87-4E38-987F-F0EE797B96F8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F8292-736A-4C0F-B32B-C7D4012F6C23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plasticsurgery.org/" TargetMode="External"/><Relationship Id="rId2" Type="http://schemas.openxmlformats.org/officeDocument/2006/relationships/hyperlink" Target="http://www.plasticsurgery.org/" TargetMode="External"/><Relationship Id="rId3" Type="http://schemas.openxmlformats.org/officeDocument/2006/relationships/hyperlink" Target="http://www.plasticsurgery.org/" TargetMode="External"/><Relationship Id="rId4" Type="http://schemas.openxmlformats.org/officeDocument/2006/relationships/hyperlink" Target="http://kidshealth.org/teen/your_mind/body_image/plastic_surgery.html" TargetMode="Externa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Mini and Micro Procedures in Plastic Surgery 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763640" y="4292640"/>
            <a:ext cx="6019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66699"/>
                </a:solidFill>
                <a:latin typeface="Arial"/>
              </a:rPr>
              <a:t>Sara 98501051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66699"/>
                </a:solidFill>
                <a:latin typeface="Arial"/>
              </a:rPr>
              <a:t>Rita 98501064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The Injection of Hyaluronic Aci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258920" y="189000"/>
            <a:ext cx="6553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pplication of Las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Laser Resurfac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1628640"/>
            <a:ext cx="8820000" cy="44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68360" y="1916280"/>
            <a:ext cx="8316720" cy="35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er Therap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icose ve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50920" y="227628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rcRect l="0" t="0" r="50013" b="359"/>
          <a:stretch/>
        </p:blipFill>
        <p:spPr>
          <a:xfrm>
            <a:off x="3635280" y="2565360"/>
            <a:ext cx="187164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556000" y="2421000"/>
            <a:ext cx="381636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050920" y="-1395360"/>
            <a:ext cx="6402600" cy="82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4920" y="549360"/>
            <a:ext cx="57610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0000"/>
                </a:solidFill>
                <a:latin typeface="Arial"/>
              </a:rPr>
              <a:t>12 Asian countries :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475920"/>
            <a:ext cx="822960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Thailand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Korea, Japa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Hong Kong, China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Singapore ,Ind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Indonesia, Malaysia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Philippines ,Vietnam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Taiwan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92720" y="3500280"/>
            <a:ext cx="2665440" cy="1873440"/>
          </a:xfrm>
          <a:prstGeom prst="wedgeRoundRectCallout">
            <a:avLst>
              <a:gd name="adj1" fmla="val -43745"/>
              <a:gd name="adj2" fmla="val 75337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40%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NO.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3132000" y="0"/>
            <a:ext cx="299088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979640" y="1413000"/>
            <a:ext cx="5472000" cy="34210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1979640" y="1413000"/>
            <a:ext cx="5473800" cy="342108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1547640" y="1413000"/>
            <a:ext cx="6409080" cy="34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 of main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tion &amp; Synony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enef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Branches Of The Surg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Learn more about anti-aging and skincare"/>
          <p:cNvPicPr/>
          <p:nvPr/>
        </p:nvPicPr>
        <p:blipFill>
          <a:blip r:embed="rId1"/>
          <a:stretch/>
        </p:blipFill>
        <p:spPr>
          <a:xfrm>
            <a:off x="324000" y="2216160"/>
            <a:ext cx="4295520" cy="337824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Learn more about facelift and related procedures"/>
          <p:cNvPicPr/>
          <p:nvPr/>
        </p:nvPicPr>
        <p:blipFill>
          <a:blip r:embed="rId2"/>
          <a:stretch/>
        </p:blipFill>
        <p:spPr>
          <a:xfrm>
            <a:off x="3995640" y="2205000"/>
            <a:ext cx="4295880" cy="33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0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www.plasticsurgery.org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http://www.yourplasticsurgeryguide.com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http://www.shs.edu.tw/works/essay/2008/03/2008033106573383.p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http://en.wikipedia.org/wiki/Electronic_portfolio 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http://kidshealth.org/teen/your_mind/body_image/plastic_surgery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http://ehiway.pixnet.net/bl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4O%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2852640"/>
            <a:ext cx="8229600" cy="30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80%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3428640"/>
            <a:ext cx="8229600" cy="25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360" y="3141360"/>
            <a:ext cx="8229600" cy="28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60%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cro” and “mini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→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ll in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Mini faceli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Learn more about cosmetic plastic surgery"/>
          <p:cNvPicPr/>
          <p:nvPr/>
        </p:nvPicPr>
        <p:blipFill>
          <a:blip r:embed="rId1"/>
          <a:stretch/>
        </p:blipFill>
        <p:spPr>
          <a:xfrm>
            <a:off x="1979640" y="1700280"/>
            <a:ext cx="5159520" cy="40640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Learn more about facelifts"/>
          <p:cNvPicPr/>
          <p:nvPr/>
        </p:nvPicPr>
        <p:blipFill>
          <a:blip r:embed="rId2"/>
          <a:stretch/>
        </p:blipFill>
        <p:spPr>
          <a:xfrm>
            <a:off x="1979640" y="1700280"/>
            <a:ext cx="5160960" cy="40590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What is the cost of liposuction?"/>
          <p:cNvPicPr/>
          <p:nvPr/>
        </p:nvPicPr>
        <p:blipFill>
          <a:blip r:embed="rId3"/>
          <a:stretch/>
        </p:blipFill>
        <p:spPr>
          <a:xfrm>
            <a:off x="1979640" y="1700280"/>
            <a:ext cx="5162400" cy="406080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nony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微整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Cosmetic surgery (Aesthetic plastic surger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Breast au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Liposuc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Micro plastic surg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Mini plastic surge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mph" presetID="1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1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99cc"/>
                                      </p:to>
                                    </p:animClr>
                                    <p:animClr clrSpc="rgb">
                                      <p:cBhvr>
                                        <p:cTn id="11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99cc"/>
                                      </p:to>
                                    </p:animClr>
                                    <p:set>
                                      <p:cBhvr>
                                        <p:cTn id="12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21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2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23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nef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Less pain and ri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Shorter recovery peri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Less postoperative ca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Natural loo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Minor rev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763640" y="2637000"/>
            <a:ext cx="6480360" cy="13665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Why so many people are craz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about the surg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4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38" dur="1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flt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1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5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0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5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7T06:33:32Z</dcterms:created>
  <dc:creator>sara</dc:creator>
  <dc:description/>
  <dc:language>en-US</dc:language>
  <cp:lastModifiedBy>shinwei</cp:lastModifiedBy>
  <dcterms:modified xsi:type="dcterms:W3CDTF">2010-10-27T16:19:46Z</dcterms:modified>
  <cp:revision>10</cp:revision>
  <dc:subject/>
  <dc:title>投影片 1</dc:title>
</cp:coreProperties>
</file>