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AFA5-14E3-4E1D-B90E-F41BE61F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5B98-65C6-4E8F-812F-87172D48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F5DA-9020-498D-9AFE-9DB09858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42E7-851F-4D37-AB0D-BDE80E1D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2E6-3247-4875-AD1D-4EA7F542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F0D6-0039-4C27-9778-61305F45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B08D-6083-433D-8CF7-CA07129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C390-688B-402E-982F-32F6619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AFFA-3F70-4691-8F3A-B8CB107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44B3-FBD8-47F2-9797-C3BBE500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281-A99E-468D-92F4-C739577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0287-CC48-4F17-944C-6B5AF696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5ED-F143-47A3-96C9-7B6138D6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FDE-D7D3-4FA6-BA21-DFF188C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DFD7-917D-46EA-BD2A-869784EF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A28A-F3D1-4765-A102-750C6660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5BC0-3CB6-456E-9FD2-18618BD6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6751-160F-457E-8518-ECD9821C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19BC-DD9F-4A75-9B28-5E54D6A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F688-3970-4CCD-B9CB-26A93484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AFAC-7913-4CCE-8413-0C689D0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9309-1E2A-40C4-8295-C7ABEAF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2F19-8984-4313-8070-AD3D6073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0B28-FA9F-4134-BC38-0535069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7CF9-8FEA-4FC0-B1AA-9449FDCA864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D96-C5D9-4298-9C2F-CBD91BA5B4A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lasticsurgery.org/" TargetMode="External"/><Relationship Id="rId2" Type="http://schemas.openxmlformats.org/officeDocument/2006/relationships/hyperlink" Target="http://www.plasticsurgery.org/" TargetMode="External"/><Relationship Id="rId3" Type="http://schemas.openxmlformats.org/officeDocument/2006/relationships/hyperlink" Target="http://www.plasticsurgery.org/" TargetMode="External"/><Relationship Id="rId4" Type="http://schemas.openxmlformats.org/officeDocument/2006/relationships/hyperlink" Target="http://kidshealth.org/teen/your_mind/body_image/plastic_surgery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i and Micro Procedures in Plastic Surgery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Sara 9850105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"/>
              </a:rPr>
              <a:t>Rita 9850106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er Resurfa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al wrin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e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20000" cy="441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6720" cy="351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50013" b="359"/>
          <a:stretch/>
        </p:blipFill>
        <p:spPr>
          <a:xfrm>
            <a:off x="3635280" y="2565360"/>
            <a:ext cx="18716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40040" y="3246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 Asian countries 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Thai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Korea, Jap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ng Kong, Chin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Singapore ,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donesia, Malays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hilippines ,Vietn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aiwan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3500280"/>
            <a:ext cx="2665440" cy="1873440"/>
          </a:xfrm>
          <a:prstGeom prst="wedgeRoundRectCallout">
            <a:avLst>
              <a:gd name="adj1" fmla="val -43745"/>
              <a:gd name="adj2" fmla="val 753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313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-1035000"/>
            <a:ext cx="6402240" cy="8253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2990880" cy="6597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aphenous v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5473800" cy="342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47640" y="1413000"/>
            <a:ext cx="6409080" cy="343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&amp;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ranches Of Th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Learn more about anti-aging and skincare"/>
          <p:cNvPicPr/>
          <p:nvPr/>
        </p:nvPicPr>
        <p:blipFill>
          <a:blip r:embed="rId1"/>
          <a:stretch/>
        </p:blipFill>
        <p:spPr>
          <a:xfrm>
            <a:off x="324000" y="2216160"/>
            <a:ext cx="4295520" cy="3378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Learn more about facelift and related procedures"/>
          <p:cNvPicPr/>
          <p:nvPr/>
        </p:nvPicPr>
        <p:blipFill>
          <a:blip r:embed="rId2"/>
          <a:stretch/>
        </p:blipFill>
        <p:spPr>
          <a:xfrm>
            <a:off x="3995640" y="2205000"/>
            <a:ext cx="4295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plasticsurgery.org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rplasticsurgeryguid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shs.edu.tw/works/essay/2008/03/2008033106573383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n.wikipedia.org/wiki/Electronic_portfolio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kidshealth.org/teen/your_mind/body_image/plastic_surge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ehiway.pixnet.net/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” and “min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in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Mini face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Learn more about cosmetic plastic surgery"/>
          <p:cNvPicPr/>
          <p:nvPr/>
        </p:nvPicPr>
        <p:blipFill>
          <a:blip r:embed="rId1"/>
          <a:stretch/>
        </p:blipFill>
        <p:spPr>
          <a:xfrm>
            <a:off x="1979640" y="1700280"/>
            <a:ext cx="5159520" cy="406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Learn more about facelifts"/>
          <p:cNvPicPr/>
          <p:nvPr/>
        </p:nvPicPr>
        <p:blipFill>
          <a:blip r:embed="rId2"/>
          <a:stretch/>
        </p:blipFill>
        <p:spPr>
          <a:xfrm>
            <a:off x="1979640" y="1700280"/>
            <a:ext cx="5160960" cy="405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What is the cost of liposuction?"/>
          <p:cNvPicPr/>
          <p:nvPr/>
        </p:nvPicPr>
        <p:blipFill>
          <a:blip r:embed="rId3"/>
          <a:stretch/>
        </p:blipFill>
        <p:spPr>
          <a:xfrm>
            <a:off x="1979640" y="1700280"/>
            <a:ext cx="5162400" cy="4060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微整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smetic surgery (Aesthetic plastic surg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pos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cro plasti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 plastic surg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in and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recove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stoperative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637000"/>
            <a:ext cx="6480360" cy="13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hy so many people are cra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bout the surg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Injection of Hyaluronic Acid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he Application of La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6:33:32Z</dcterms:created>
  <dc:creator>sara</dc:creator>
  <dc:description/>
  <dc:language>en-US</dc:language>
  <cp:lastModifiedBy>shinwei</cp:lastModifiedBy>
  <dcterms:modified xsi:type="dcterms:W3CDTF">2010-10-28T05:35:07Z</dcterms:modified>
  <cp:revision>16</cp:revision>
  <dc:subject/>
  <dc:title>投影片 1</dc:title>
</cp:coreProperties>
</file>