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gif" ContentType="image/gif"/>
  <Override PartName="/ppt/media/image12.jpeg" ContentType="image/jpeg"/>
  <Override PartName="/ppt/media/image15.jpeg" ContentType="image/jpeg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6.png" ContentType="image/png"/>
  <Override PartName="/ppt/media/image7.jpeg" ContentType="image/jpe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A8E274-F2AF-42CC-ABA1-A70DE06F9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FA6E26-7685-4DB5-A407-79395618C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1DBB54-642E-4935-9D77-5D7BA5AB8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BE0EB9-C83C-4385-9473-C9FA51241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2EFFD-35C7-47B6-9951-F5B2A9CC5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D4B60-F328-4927-B45A-5B61E8143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98433-A986-4538-A7B4-A2471A6B8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61E40-17B1-4717-BB8A-DE00C7D02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55C9E-A2C4-400C-A5E6-3407E6CD7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2B5B6-F58B-450B-B5D2-9354AD366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8E7F2-9216-4724-90E1-65026A894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D1A1B2-2DFC-4860-8156-21B18C68C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184B7-06C2-4D4E-BD38-C9AB11AAF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F7D0E-5EEB-458C-8638-DD7B1B0C4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679E9-2CC1-498E-AE68-EA5BBD4F2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4D0B0-705D-4314-97AA-1554552FE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69144-4AF9-4ABC-BD29-016E6155A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F9AAAE-B867-45E7-A4C3-E98D9C21A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115FAA-C39E-4C74-A307-06E538E63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BF421A-C8E0-4BFB-B86B-1AF988081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4FB48A-7A58-45D0-A226-60C502116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C3ACC1-F082-42F6-9EEF-0E3933E5A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1767D9-3C34-4B43-839D-FE7AB28B1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68246E-3C0A-4215-AC6C-DFD2403EA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78CD7-42B6-4BA4-B061-38A6E1631BE9}" type="slidenum">
              <a:rPr b="0" lang="zh-TW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6D83C-778F-45C1-88CE-8293E5D6EEEE}" type="slidenum">
              <a:rPr b="0" lang="zh-TW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www.plasticsurgery.org/" TargetMode="External"/><Relationship Id="rId2" Type="http://schemas.openxmlformats.org/officeDocument/2006/relationships/hyperlink" Target="http://www.plasticsurgery.org/" TargetMode="External"/><Relationship Id="rId3" Type="http://schemas.openxmlformats.org/officeDocument/2006/relationships/hyperlink" Target="http://www.plasticsurgery.org/" TargetMode="External"/><Relationship Id="rId4" Type="http://schemas.openxmlformats.org/officeDocument/2006/relationships/hyperlink" Target="http://kidshealth.org/teen/your_mind/body_image/plastic_surgery.html" TargetMode="External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Mini and Micro Procedures in Plastic Surgery 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763640" y="4292640"/>
            <a:ext cx="60199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66699"/>
                </a:solidFill>
                <a:latin typeface="Arial"/>
              </a:rPr>
              <a:t>Sara 98501051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66699"/>
                </a:solidFill>
                <a:latin typeface="Arial"/>
              </a:rPr>
              <a:t>Rita 98501064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The Injection of Hyaluronic Aci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258920" y="189000"/>
            <a:ext cx="6553080" cy="6553080"/>
          </a:xfrm>
          <a:prstGeom prst="rect">
            <a:avLst/>
          </a:prstGeom>
          <a:ln w="0">
            <a:noFill/>
          </a:ln>
        </p:spPr>
      </p:pic>
    </p:spTree>
  </p:cSld>
  <p:transition>
    <p:cover dir="l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pplication of Las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000000"/>
                </a:solidFill>
                <a:latin typeface="Arial"/>
              </a:rPr>
              <a:t>Laser Resurfac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cial wrink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kin irregular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0" y="1628640"/>
            <a:ext cx="8820000" cy="441180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68360" y="1916280"/>
            <a:ext cx="8316720" cy="351756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er Therap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ricose vei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50920" y="227628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rcRect l="0" t="0" r="50013" b="359"/>
          <a:stretch/>
        </p:blipFill>
        <p:spPr>
          <a:xfrm>
            <a:off x="3635280" y="2565360"/>
            <a:ext cx="1871640" cy="2664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ricose vei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2556000" y="2421000"/>
            <a:ext cx="3816360" cy="367200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3740040" y="3246480"/>
            <a:ext cx="16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ricose ve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94920" y="549360"/>
            <a:ext cx="57610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12 Asian countries :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475920"/>
            <a:ext cx="8229600" cy="63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Thailand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Korea, Japa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Hong Kong, China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Singapore ,Ind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Indonesia, Malaysia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Philippines ,Vietnam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Taiwan</a:t>
            </a: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292720" y="3500280"/>
            <a:ext cx="2665440" cy="1873440"/>
          </a:xfrm>
          <a:prstGeom prst="wedgeRoundRectCallout">
            <a:avLst>
              <a:gd name="adj1" fmla="val -43745"/>
              <a:gd name="adj2" fmla="val 75337"/>
              <a:gd name="adj3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40%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NO.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7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9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0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475920"/>
            <a:ext cx="3132000" cy="25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Saphenous </a:t>
            </a:r>
            <a:br>
              <a:rPr sz="4400"/>
            </a:b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ve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2916360" y="-1035000"/>
            <a:ext cx="6402240" cy="8253360"/>
          </a:xfrm>
          <a:prstGeom prst="rect">
            <a:avLst/>
          </a:prstGeom>
          <a:ln w="0">
            <a:noFill/>
          </a:ln>
        </p:spPr>
      </p:pic>
    </p:spTree>
  </p:cSld>
  <p:transition>
    <p:push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Saphenous vei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4284720" y="0"/>
            <a:ext cx="2990880" cy="6597720"/>
          </a:xfrm>
          <a:prstGeom prst="rect">
            <a:avLst/>
          </a:prstGeom>
          <a:ln w="0">
            <a:noFill/>
          </a:ln>
        </p:spPr>
      </p:pic>
    </p:spTree>
  </p:cSld>
  <p:transition>
    <p:push dir="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Saphenous ve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979640" y="1413000"/>
            <a:ext cx="5472000" cy="342108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1979640" y="1413000"/>
            <a:ext cx="5473800" cy="342108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1547640" y="1413000"/>
            <a:ext cx="6409080" cy="34383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iew of main 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ition &amp; Synony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enef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Branches Of The Surg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9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0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1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2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Learn more about anti-aging and skincare"/>
          <p:cNvPicPr/>
          <p:nvPr/>
        </p:nvPicPr>
        <p:blipFill>
          <a:blip r:embed="rId1"/>
          <a:stretch/>
        </p:blipFill>
        <p:spPr>
          <a:xfrm>
            <a:off x="324000" y="2216160"/>
            <a:ext cx="4295520" cy="337824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Learn more about facelift and related procedures"/>
          <p:cNvPicPr/>
          <p:nvPr/>
        </p:nvPicPr>
        <p:blipFill>
          <a:blip r:embed="rId2"/>
          <a:stretch/>
        </p:blipFill>
        <p:spPr>
          <a:xfrm>
            <a:off x="3995640" y="2205000"/>
            <a:ext cx="4295880" cy="337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0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www.plasticsurgery.org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http://www.yourplasticsurgeryguide.com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http://www.shs.edu.tw/works/essay/2008/03/2008033106573383.p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http://en.wikipedia.org/wiki/Electronic_portfolio 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http://kidshealth.org/teen/your_mind/body_image/plastic_surgery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http://ehiway.pixnet.net/bl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2852640"/>
            <a:ext cx="8229600" cy="30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80%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24000" y="3428640"/>
            <a:ext cx="8229600" cy="25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68360" y="3141360"/>
            <a:ext cx="8229600" cy="28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60%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cro” and “mini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→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all inc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Mini facelif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Learn more about cosmetic plastic surgery"/>
          <p:cNvPicPr/>
          <p:nvPr/>
        </p:nvPicPr>
        <p:blipFill>
          <a:blip r:embed="rId1"/>
          <a:stretch/>
        </p:blipFill>
        <p:spPr>
          <a:xfrm>
            <a:off x="1979640" y="1700280"/>
            <a:ext cx="5159520" cy="406404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Learn more about facelifts"/>
          <p:cNvPicPr/>
          <p:nvPr/>
        </p:nvPicPr>
        <p:blipFill>
          <a:blip r:embed="rId2"/>
          <a:stretch/>
        </p:blipFill>
        <p:spPr>
          <a:xfrm>
            <a:off x="1979640" y="1700280"/>
            <a:ext cx="5160960" cy="40590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What is the cost of liposuction?"/>
          <p:cNvPicPr/>
          <p:nvPr/>
        </p:nvPicPr>
        <p:blipFill>
          <a:blip r:embed="rId3"/>
          <a:stretch/>
        </p:blipFill>
        <p:spPr>
          <a:xfrm>
            <a:off x="1979640" y="1700280"/>
            <a:ext cx="5162400" cy="406080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ynony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微整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Cosmetic surgery (Aesthetic plastic surger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Breast aug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Liposuc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Micro plastic surg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Mini plastic surger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l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mph" presetID="1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18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999cc"/>
                                      </p:to>
                                    </p:animClr>
                                    <p:animClr clrSpc="rgb">
                                      <p:cBhvr>
                                        <p:cTn id="119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99cc"/>
                                      </p:to>
                                    </p:animClr>
                                    <p:set>
                                      <p:cBhvr>
                                        <p:cTn id="120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21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2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23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nef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ss pain and ri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rter recovery peri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ss postoperative ca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tural loo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or revi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763640" y="2637000"/>
            <a:ext cx="6480360" cy="13665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Why so many people are craz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about the surg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xit" presetID="4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38" dur="10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fltVal val="-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1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5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0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5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0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5" dur="5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The Injection of Hyaluronic Acid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The Application of Las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7T06:33:32Z</dcterms:created>
  <dc:creator>sara</dc:creator>
  <dc:description/>
  <dc:language>en-US</dc:language>
  <cp:lastModifiedBy>shinwei</cp:lastModifiedBy>
  <dcterms:modified xsi:type="dcterms:W3CDTF">2010-10-28T05:35:07Z</dcterms:modified>
  <cp:revision>16</cp:revision>
  <dc:subject/>
  <dc:title>投影片 1</dc:title>
</cp:coreProperties>
</file>