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24C1E-F0E8-4958-8238-651A9233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FB3FC-1A76-49FA-B51A-6B6A6A78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B1119-78B2-47FC-9093-382F29F8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EEB22-C94A-4263-B61A-805C6D2F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2F0F-37B7-4E2F-BD8A-54A3B3F29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3CB6-EA73-4F96-9054-0926E1D4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8D63-DE37-430B-A0F2-B131FB40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C51B-5597-4F87-88B5-03A4CC29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4814-2035-4AF3-BF62-BE3844E6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D5F8-3B66-4FA6-BC98-8592C4F3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108F-87A5-464C-8E5F-E98995B3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7CFD1-5A2A-4776-86EB-23C608AC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6B43-450E-4CB6-8411-26863765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2603-78C5-4FF4-ABBC-D165A1D8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A33F-9368-479D-B93B-5C5E10AD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2599-9D39-4FE1-B666-617F5E354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4118-A4B8-4EA5-AB33-AB2887BA3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79686-8551-4B01-9960-8C919A58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2AF3E-0AB0-4291-A2C4-DE47EB97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45A70-43C0-4310-B88A-AB161620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5D394-A818-4066-AAB4-2180F18A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481B7-3BFC-4199-9209-7F437FD8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89500-1BF3-42B2-A701-BD375669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397C0-EE49-4337-B415-0CA76D68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C42C-A9C9-4180-A60D-FD17F28471A4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D2B0-9346-45D1-907D-5D1C7E9B8A57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plasticsurgery.org/" TargetMode="External"/><Relationship Id="rId2" Type="http://schemas.openxmlformats.org/officeDocument/2006/relationships/hyperlink" Target="http://www.plasticsurgery.org/" TargetMode="External"/><Relationship Id="rId3" Type="http://schemas.openxmlformats.org/officeDocument/2006/relationships/hyperlink" Target="http://www.plasticsurgery.org/" TargetMode="External"/><Relationship Id="rId4" Type="http://schemas.openxmlformats.org/officeDocument/2006/relationships/hyperlink" Target="http://kidshealth.org/teen/your_mind/body_image/plastic_surgery.html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ini and Micro Procedures in Plastic Surgery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63640" y="429264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Sara 9850105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Rita 9850106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he Injection of Hyaluronic Ac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pplication of Las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Laser Resurfac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al wrink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n irregula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8820000" cy="4411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316720" cy="3517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er Therap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50013" b="359"/>
          <a:stretch/>
        </p:blipFill>
        <p:spPr>
          <a:xfrm>
            <a:off x="3635280" y="2565360"/>
            <a:ext cx="1871640" cy="2664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56000" y="2421000"/>
            <a:ext cx="3816360" cy="3672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740040" y="32464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5761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2 Asian countries 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Thaila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Korea, Japa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Hong Kong, Chin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Singapore ,In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Indonesia, Malaysi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Philippines ,Vietnam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Taiwan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92720" y="3500280"/>
            <a:ext cx="2665440" cy="1873440"/>
          </a:xfrm>
          <a:prstGeom prst="wedgeRoundRectCallout">
            <a:avLst>
              <a:gd name="adj1" fmla="val -43745"/>
              <a:gd name="adj2" fmla="val 7533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.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3132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aphenous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916360" y="-1035000"/>
            <a:ext cx="6402240" cy="8253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aphenous ve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284720" y="0"/>
            <a:ext cx="2990880" cy="65977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aphenous v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472000" cy="3421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979640" y="1413000"/>
            <a:ext cx="5473800" cy="3421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547640" y="1413000"/>
            <a:ext cx="6409080" cy="3438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main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&amp; Syn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Branches Of The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Learn more about anti-aging and skincare"/>
          <p:cNvPicPr/>
          <p:nvPr/>
        </p:nvPicPr>
        <p:blipFill>
          <a:blip r:embed="rId1"/>
          <a:stretch/>
        </p:blipFill>
        <p:spPr>
          <a:xfrm>
            <a:off x="324000" y="2216160"/>
            <a:ext cx="4295520" cy="3378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Learn more about facelift and related procedures"/>
          <p:cNvPicPr/>
          <p:nvPr/>
        </p:nvPicPr>
        <p:blipFill>
          <a:blip r:embed="rId2"/>
          <a:stretch/>
        </p:blipFill>
        <p:spPr>
          <a:xfrm>
            <a:off x="3995640" y="2205000"/>
            <a:ext cx="42958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plasticsurgery.org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yourplasticsurgeryguide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shs.edu.tw/works/essay/2008/03/2008033106573383.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en.wikipedia.org/wiki/Electronic_portfolio 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kidshealth.org/teen/your_mind/body_image/plastic_surgery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ehiway.pixnet.net/b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342864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822960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” and “mini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in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Mini facel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Learn more about cosmetic plastic surgery"/>
          <p:cNvPicPr/>
          <p:nvPr/>
        </p:nvPicPr>
        <p:blipFill>
          <a:blip r:embed="rId1"/>
          <a:stretch/>
        </p:blipFill>
        <p:spPr>
          <a:xfrm>
            <a:off x="1979640" y="1700280"/>
            <a:ext cx="5159520" cy="4064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Learn more about facelifts"/>
          <p:cNvPicPr/>
          <p:nvPr/>
        </p:nvPicPr>
        <p:blipFill>
          <a:blip r:embed="rId2"/>
          <a:stretch/>
        </p:blipFill>
        <p:spPr>
          <a:xfrm>
            <a:off x="1979640" y="1700280"/>
            <a:ext cx="5160960" cy="4059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What is the cost of liposuction?"/>
          <p:cNvPicPr/>
          <p:nvPr/>
        </p:nvPicPr>
        <p:blipFill>
          <a:blip r:embed="rId3"/>
          <a:stretch/>
        </p:blipFill>
        <p:spPr>
          <a:xfrm>
            <a:off x="1979640" y="1700280"/>
            <a:ext cx="5162400" cy="4060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ony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微整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osmetic surgery (Aesthetic plastic surge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Lipos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cro plastic 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ni plastic surg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animClr clrSpc="rgb">
                                      <p:cBhvr>
                                        <p:cTn id="1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set>
                                      <p:cBhvr>
                                        <p:cTn id="1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pain and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er recovery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postoperative 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loo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or re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63640" y="2637000"/>
            <a:ext cx="6480360" cy="1366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hy so many people are craz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bout the surg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he Injection of Hyaluronic Acid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he Application of Las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6:33:32Z</dcterms:created>
  <dc:creator>sara</dc:creator>
  <dc:description/>
  <dc:language>en-US</dc:language>
  <cp:lastModifiedBy>shinwei</cp:lastModifiedBy>
  <dcterms:modified xsi:type="dcterms:W3CDTF">2010-10-28T05:35:07Z</dcterms:modified>
  <cp:revision>16</cp:revision>
  <dc:subject/>
  <dc:title>投影片 1</dc:title>
</cp:coreProperties>
</file>