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A19C-19E3-477C-B32C-BBEBF0EE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2D7F-5B9D-47E8-B5F6-2384F243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4D69-3E8C-4DF0-840F-1AECEE19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338FC-0ECC-4655-A37C-1C26189B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050D-87E2-4133-B697-5A01EDFA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71C4-18FF-432E-9DBE-496CA81E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D5E6-F13E-41C2-81E7-4B67A58C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E892-2DDA-4671-82AB-DECC130A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EF9B-66F8-4127-B25F-A38DE7D7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CB15-64D7-4740-AA44-0C46F461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8227-062A-4966-894E-D44FAB55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C42DF-399F-47DE-A519-0D3353DD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5D31-26BA-431B-9DCC-74AD4D71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E25B-6659-4F84-A803-C1AF6444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6CC4-BF7E-47B9-AE8D-8377248B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7A8D-4A78-4F92-B7AE-FF8EE096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D638-839C-4233-9500-B6713CC7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621A-73E9-4060-8B52-4C5EC49C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62403-679C-4444-8F65-30EB1EED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26E7-BC32-4D18-B7DC-2197D0A2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AD52-4F1D-40A6-A050-60543181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CC06-F442-4BB8-A332-96E65BF3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0545-C8A0-4244-A3C5-F419FFD1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0A7C-665A-4002-AA7A-371510E3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E370-4243-4D4D-9812-E0964814520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07EF-6677-40F9-A4AE-64FCFB00CE9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al wrink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irregu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40040" y="32464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31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16360" y="-1035000"/>
            <a:ext cx="640224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8T05:35:07Z</dcterms:modified>
  <cp:revision>16</cp:revision>
  <dc:subject/>
  <dc:title>投影片 1</dc:title>
</cp:coreProperties>
</file>