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DCB6-B5B3-4316-8376-72E79ABD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1C0F-61D9-4444-B9E8-F8CD054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2DE5-6A9F-454D-8010-5E666F48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B081-5857-440E-B45F-F2C2B431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04CC-033B-4D07-B8D0-DD99025B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1177-8165-41AC-93B0-8F0178D9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3062-EEC7-4F78-A3C3-4DF167C3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285B-1F5E-4D8A-AEB7-F318B85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321-E46E-432C-A17F-152673C3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2FB4-1B95-4FAD-BA58-639D8C7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D40-905D-4FED-851F-261A4009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AD41-7E47-49BE-B968-0DA1418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8DA5-7DDE-4F03-B468-570189F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B18A-1BB2-477F-B85F-0A24D68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2BCE-2C7F-462D-8097-B0AB9E7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0E34-5D29-4FF0-A257-4A65A912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652-3BC3-4E6E-BE2E-42C6053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39D4-9097-4D5F-9B6F-B3D2DAC1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9A35-4999-4233-8244-EF6D564B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E1CE-5822-493B-87EB-5B383B2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2CF1-330E-4168-A298-158C1D96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8E06-DE5D-4FAE-A7E5-DEC66A0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E1A6-5A98-4DC0-9154-5020A6C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9482-DEA6-43B6-8823-7A4BFAD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E7DF-CEBC-42F5-9E52-3EFC3F2C6CF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92EC-E70B-4B1B-A615-7771DDA9191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5:35:07Z</dcterms:modified>
  <cp:revision>16</cp:revision>
  <dc:subject/>
  <dc:title>投影片 1</dc:title>
</cp:coreProperties>
</file>