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A41E1-D16A-4582-A3E5-362A4E7F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B08E6-FAFD-4862-BB85-ABC365CF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CA099-9759-48FF-A161-5197296B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12C9-604A-45A5-A373-EA02DE11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AA54-995F-416C-A622-DFFF9903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307B-EF54-473A-A59E-92342FC4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49BC-7AE9-4F62-B6C5-30B07588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5C1F-03A6-4383-8757-20EDEDB9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0DAA-1CE6-4BE5-AFF2-40DFE895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BF9A-0439-4AD4-93E6-492F0004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2A98-12CB-471E-9772-8CA74389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16B4-CFB8-4BA6-8951-AFFD6238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9C8F-6A7B-49CA-95E2-C872CEEF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AF76-C689-4A8E-A074-D862402C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770A-AF51-483D-BA58-9A0C6120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55D9-E85E-4C3F-92FD-389510BE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7A75-89CB-4160-B496-A356FF25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0D8E1-B48C-41C9-AAE6-8F9D57FF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3F8EC-C0A6-4245-8AB3-48C2A716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5DE3E-776F-4EBF-AA35-BF157D00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F12BF-AFA2-49A3-8CC3-99FBB868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BDF3-3857-4306-B397-1B97E138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E50E6-AF54-4843-BEA5-552201DE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75A52-0DD8-4654-B1F1-A768D9EE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7A57-BA61-4BEB-8E1C-24520454F6DF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F2EB-CC8D-4A11-95F8-E0235E82372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40040" y="32464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313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916360" y="-1035000"/>
            <a:ext cx="6402240" cy="8253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O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8T04:50:39Z</dcterms:modified>
  <cp:revision>12</cp:revision>
  <dc:subject/>
  <dc:title>投影片 1</dc:title>
</cp:coreProperties>
</file>