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39DA-994F-487D-9A39-EA48D261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C857-6CCB-479E-B392-556A565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FDC4-51B0-4EE4-9526-8E3981C2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9741-B156-40C7-837B-4EC5CA27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1875-CF07-403D-A786-577F42C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17E5-45ED-40FD-8BA0-E19D01F2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FC1-01E5-4292-878D-3CE5F0D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4FF1-18D9-4547-B518-E67D28A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C54-E6ED-48BB-AEB1-86C8FA71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2DE1-7C89-4070-9BDA-AD7D4A2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92C-B0B6-4C9B-AF3F-DE10E95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9CB9-FDAC-4687-BDA5-AE175EA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D0B-452A-4893-8BEB-25E3970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412-E68D-4F2A-89C5-86ECFE8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466-E2C9-4F20-9869-C1A7F84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B4CD-EC83-4D22-8057-A167CF49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3FC-959C-4140-B367-2C3427A7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7D97-D07F-4D6B-8369-89FF5BA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1461-6C70-4EF9-A77C-930D0860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F476-9DF5-476F-A94D-AD160FA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CF68-3DE4-4329-8894-E9FA4A8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4262-34DE-4A3E-8ACB-612EF6B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338A-03A6-406B-B5F1-DE2A127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DABE-FCC8-4881-B9D2-802541D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5D5-0CB8-45CE-A57F-A8ED6F60009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DD8-866A-4353-A8DF-7B2EC78C278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0:39Z</dcterms:modified>
  <cp:revision>12</cp:revision>
  <dc:subject/>
  <dc:title>投影片 1</dc:title>
</cp:coreProperties>
</file>