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FF46-5AD3-4D4A-B0DA-D41C6DE9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AEB5-928E-4444-A60D-91B847C4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4A61-3973-4C8C-877F-C799FC48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450D-0150-4166-B5E6-DC03D598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B2F-B121-45EA-BA41-098DC229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CBB5-5448-4A29-9D02-A3B88DA7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3113-50E8-4C9F-977C-8A4D77C0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532A-2CE4-44AB-AC0C-33E92CD8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CBFF-2219-49F9-9CD9-3E8894BD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5EF0-EACF-4024-97D9-AA9046CB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E720-4CF3-4B3D-BE14-04D7B3F5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7460-77E6-4083-8F13-3DF0EB41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0F26-F231-4DA7-88BF-E5831387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4205-99E5-461C-BEAB-746CAA9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E953-D555-452D-80D0-D86F7B56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8DC7-7A0B-4285-98A7-B636A612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617C-ECB3-4C36-A565-1299123A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E103-8C30-4914-8269-3B4B9B30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B0C6-E76B-469A-8E5D-37F9221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4AA4-C641-4EBF-84ED-58F5074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7F0B-5F14-47DB-A819-ACCCE3FF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9A79-5655-46EE-B766-C665C35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F07D-F884-487D-9E39-0BC49F4F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D3C8-0F32-4CA3-8495-CB37F03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DBAD-2FEB-40A7-8801-46EB05A5415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6D2-02B2-48A4-AF06-8F1E83BD8C9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4:50:39Z</dcterms:modified>
  <cp:revision>12</cp:revision>
  <dc:subject/>
  <dc:title>投影片 1</dc:title>
</cp:coreProperties>
</file>