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2210-616A-4FE9-AFBC-4F98140A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2551-2392-4786-AA11-34E5A42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CAC0-14EB-41B6-9796-77C7C0C0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882A-07E1-4F09-BFD8-0733F9FC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4715-92BD-4B83-BB8E-F52FD3B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F30A-7F1F-46DD-89D8-3B4A34C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2585-22CD-43FA-9123-AA3A15B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7AC-40F4-4032-93B8-9E3A6C4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D4E6-4135-4850-8D94-CF8E2BF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8C4B-92AC-4BA1-9790-15D5103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094-D6B2-4348-AC80-F495A5D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C338-6A1F-42B2-96A7-346B45D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053-DD0C-409F-97FF-50FDC5C9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FC33-438D-4D19-A7BE-86864EB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B811-8D66-4600-A387-CBD48E5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705-B3FE-472B-8D67-97245C92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FED-6F6F-4986-8A5C-6B91616E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6382-7595-4604-AEE8-FFA405F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B15B-4C2E-4933-A857-4A128DD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20AA-B9A9-4953-8923-533ADF6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6186-27D4-49DD-919D-1920B53D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FF92-4FFA-40B2-B030-632612E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F69A-2279-45FC-BB77-30B1FB2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D90D-C1D9-4D7A-B599-2680BAA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C96-32D9-4F31-B516-BB7A541A2D5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DE1-C2B8-4DF0-A2F7-D26C3DDBBAB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0:39Z</dcterms:modified>
  <cp:revision>12</cp:revision>
  <dc:subject/>
  <dc:title>投影片 1</dc:title>
</cp:coreProperties>
</file>