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36F8E-BBF1-41D9-9F89-96522F120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24512-CAAD-4504-81BD-113D39DF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A0385-5B2E-4C83-83D5-ADE501F8E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727F4-A020-442B-B54D-25C10A7C2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2841-D3A8-4009-AF7D-278F772C6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8F54-D80E-45B4-9239-6E802588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FB63-5326-4012-826D-9D03FAAA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543A-E464-4B19-BBA2-3DDB42CC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2AB4-1791-4054-8577-62B6E981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1C9D-C941-41DD-8D27-43538348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A2C3-8C26-45F5-B956-67FB05A5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91B88-EA48-4D1D-B9CF-3B3AE9C4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CA70-6350-4927-82FE-115094ED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A814-EC86-46CA-B81E-5C78F606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CFC0-60F0-44BC-9DB7-74FFE323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9938-0051-4374-A07A-2ED0339AB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E6AC-0878-447F-A268-5F75C781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84253-8E88-434C-857F-B6432E06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C297E-FDA0-43CF-B7A1-E18722B8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09589-9B93-46FD-991F-52ED315C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58B70-2D5C-40D7-8AFE-ABC9DB95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082FE-885F-4863-952C-FCD3B0CE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E81EC-A94F-44B2-A71D-7C09B798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12F1C-0CB0-4DB9-B275-11F01CBA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08C6-F7F1-415C-910D-8285C6170E08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5FB1-95CB-4782-AD07-FEDEA17B0FCB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plasticsurgery.org/" TargetMode="External"/><Relationship Id="rId2" Type="http://schemas.openxmlformats.org/officeDocument/2006/relationships/hyperlink" Target="http://www.plasticsurgery.org/" TargetMode="External"/><Relationship Id="rId3" Type="http://schemas.openxmlformats.org/officeDocument/2006/relationships/hyperlink" Target="http://www.plasticsurgery.org/" TargetMode="External"/><Relationship Id="rId4" Type="http://schemas.openxmlformats.org/officeDocument/2006/relationships/hyperlink" Target="http://kidshealth.org/teen/your_mind/body_image/plastic_surgery.html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ini and Micro Procedures in Plastic Surgery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63640" y="429264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Sara 9850105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Rita 9850106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he Injection of Hyaluronic Acid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he Application of La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he Injection of Hyaluronic Ac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pplication of La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Laser Resurfac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8820000" cy="4411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316720" cy="3517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er Thera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50013" b="359"/>
          <a:stretch/>
        </p:blipFill>
        <p:spPr>
          <a:xfrm>
            <a:off x="3635280" y="2565360"/>
            <a:ext cx="1871640" cy="2664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56000" y="2421000"/>
            <a:ext cx="3816360" cy="3672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740040" y="32464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5761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2 Asian countries 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Thaila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Korea, Japa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Hong Kong, Chin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Singapore ,In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Indonesia, Malaysi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Philippines ,Vietnam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Taiwan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92720" y="3500280"/>
            <a:ext cx="2665440" cy="1873440"/>
          </a:xfrm>
          <a:prstGeom prst="wedgeRoundRectCallout">
            <a:avLst>
              <a:gd name="adj1" fmla="val -43745"/>
              <a:gd name="adj2" fmla="val 7533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.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3132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aphenous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916360" y="-1035000"/>
            <a:ext cx="6402240" cy="8253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aphenous ve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284720" y="0"/>
            <a:ext cx="2990880" cy="65977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aphenous v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472000" cy="3421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979640" y="1413000"/>
            <a:ext cx="5473800" cy="3421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547640" y="1413000"/>
            <a:ext cx="6409080" cy="3438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main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&amp; Syn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Branches Of The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Learn more about anti-aging and skincare"/>
          <p:cNvPicPr/>
          <p:nvPr/>
        </p:nvPicPr>
        <p:blipFill>
          <a:blip r:embed="rId1"/>
          <a:stretch/>
        </p:blipFill>
        <p:spPr>
          <a:xfrm>
            <a:off x="324000" y="2216160"/>
            <a:ext cx="4295520" cy="3378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Learn more about facelift and related procedures"/>
          <p:cNvPicPr/>
          <p:nvPr/>
        </p:nvPicPr>
        <p:blipFill>
          <a:blip r:embed="rId2"/>
          <a:stretch/>
        </p:blipFill>
        <p:spPr>
          <a:xfrm>
            <a:off x="3995640" y="2205000"/>
            <a:ext cx="42958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plasticsurgery.org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yourplasticsurgeryguide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shs.edu.tw/works/essay/2008/03/2008033106573383.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n.wikipedia.org/wiki/Electronic_portfolio 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kidshealth.org/teen/your_mind/body_image/plastic_surgery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hiway.pixnet.net/b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O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342864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822960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” and “mini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in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Mini facel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Learn more about cosmetic plastic surgery"/>
          <p:cNvPicPr/>
          <p:nvPr/>
        </p:nvPicPr>
        <p:blipFill>
          <a:blip r:embed="rId1"/>
          <a:stretch/>
        </p:blipFill>
        <p:spPr>
          <a:xfrm>
            <a:off x="1979640" y="1700280"/>
            <a:ext cx="5159520" cy="4064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Learn more about facelifts"/>
          <p:cNvPicPr/>
          <p:nvPr/>
        </p:nvPicPr>
        <p:blipFill>
          <a:blip r:embed="rId2"/>
          <a:stretch/>
        </p:blipFill>
        <p:spPr>
          <a:xfrm>
            <a:off x="1979640" y="1700280"/>
            <a:ext cx="5160960" cy="4059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What is the cost of liposuction?"/>
          <p:cNvPicPr/>
          <p:nvPr/>
        </p:nvPicPr>
        <p:blipFill>
          <a:blip r:embed="rId3"/>
          <a:stretch/>
        </p:blipFill>
        <p:spPr>
          <a:xfrm>
            <a:off x="1979640" y="1700280"/>
            <a:ext cx="5162400" cy="4060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ony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微整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osmetic surgery (Aesthetic plastic surge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Lipos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cro plastic 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ni plastic surg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animClr clrSpc="rgb">
                                      <p:cBhvr>
                                        <p:cTn id="1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set>
                                      <p:cBhvr>
                                        <p:cTn id="1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pain and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er recovery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postoperative 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loo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or re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63640" y="2637000"/>
            <a:ext cx="6480360" cy="1366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hy so many people are craz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bout the surg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6:33:32Z</dcterms:created>
  <dc:creator>sara</dc:creator>
  <dc:description/>
  <dc:language>en-US</dc:language>
  <cp:lastModifiedBy>shinwei</cp:lastModifiedBy>
  <dcterms:modified xsi:type="dcterms:W3CDTF">2010-10-28T04:57:07Z</dcterms:modified>
  <cp:revision>13</cp:revision>
  <dc:subject/>
  <dc:title>投影片 1</dc:title>
</cp:coreProperties>
</file>