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F1CC3-93BB-4230-975F-F7DBC13E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E18DE-4FC5-4066-B739-40222C58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3CD92-9720-4DFF-85EF-61F117FE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4432B-7982-48AE-A7C9-1150A9A6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79F1-8439-4788-B151-12DC83CB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7607-FCFF-4684-8264-056361B2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1498-B1FE-46CA-8AF6-AE79384B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F332-A276-48A5-9377-0F893F87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8541-D2C4-4BA4-A0D3-90B7B9D6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3DA5-8E90-4C6A-BC11-1EE12FE6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3319-C5C7-4DAB-B351-7440A6FC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EB8A1-721B-4012-BE30-70DC1668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8127-8338-4F8A-A808-A8A05D7C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9EDB-7F6F-4037-A777-F2F5A1AC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FC29-0547-4CEA-BA24-CEA7CB53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A023-0C90-4BC3-8451-86347566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9883-B699-446F-8A00-B4EC627B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F3D0D-97F5-489B-873D-5383B2CC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E8802-24CD-4A15-B460-38DF56FF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353F2-AB02-477E-8990-B5629687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A00C9-96B6-43FF-8E12-F11948C6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11CB6-CCAA-486E-97B6-D44911C5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887C0-8016-49AA-B317-FCA847A7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543E9-555A-42B9-8D7B-4736441C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6A3B-CFDA-4426-A8BD-D48648617B9E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9935-854C-46CF-AB8F-F0DBB2CA40D5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plasticsurgery.org/" TargetMode="External"/><Relationship Id="rId2" Type="http://schemas.openxmlformats.org/officeDocument/2006/relationships/hyperlink" Target="http://www.plasticsurgery.org/" TargetMode="External"/><Relationship Id="rId3" Type="http://schemas.openxmlformats.org/officeDocument/2006/relationships/hyperlink" Target="http://www.plasticsurgery.org/" TargetMode="External"/><Relationship Id="rId4" Type="http://schemas.openxmlformats.org/officeDocument/2006/relationships/hyperlink" Target="http://kidshealth.org/teen/your_mind/body_image/plastic_surgery.htm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ini and Micro Procedures in Plastic Surgery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63640" y="4292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Sara 9850105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Rita 9850106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Injection of Hyaluronic Acid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Application of La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Injection of Hyaluronic Ac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lication of La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Laser Resurfa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8820000" cy="4411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316720" cy="3517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er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50013" b="359"/>
          <a:stretch/>
        </p:blipFill>
        <p:spPr>
          <a:xfrm>
            <a:off x="3635280" y="2565360"/>
            <a:ext cx="1871640" cy="266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56000" y="2421000"/>
            <a:ext cx="3816360" cy="3672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740040" y="32464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5761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2 Asian countries 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Thaila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Korea, Jap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ng Kong, Chin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Singapore ,In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donesia, Malaysi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hilippines ,Vietnam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aiwan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3500280"/>
            <a:ext cx="2665440" cy="1873440"/>
          </a:xfrm>
          <a:prstGeom prst="wedgeRoundRectCallout">
            <a:avLst>
              <a:gd name="adj1" fmla="val -43745"/>
              <a:gd name="adj2" fmla="val 7533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3132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916360" y="-1035000"/>
            <a:ext cx="6402240" cy="8253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ve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2990880" cy="6597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v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472000" cy="3421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5473800" cy="3421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547640" y="1413000"/>
            <a:ext cx="6409080" cy="343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mai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&amp; 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Branches Of The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Learn more about anti-aging and skincare"/>
          <p:cNvPicPr/>
          <p:nvPr/>
        </p:nvPicPr>
        <p:blipFill>
          <a:blip r:embed="rId1"/>
          <a:stretch/>
        </p:blipFill>
        <p:spPr>
          <a:xfrm>
            <a:off x="324000" y="2216160"/>
            <a:ext cx="4295520" cy="3378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Learn more about facelift and related procedures"/>
          <p:cNvPicPr/>
          <p:nvPr/>
        </p:nvPicPr>
        <p:blipFill>
          <a:blip r:embed="rId2"/>
          <a:stretch/>
        </p:blipFill>
        <p:spPr>
          <a:xfrm>
            <a:off x="3995640" y="2205000"/>
            <a:ext cx="42958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plasticsurgery.org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yourplasticsurgeryguide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shs.edu.tw/works/essay/2008/03/2008033106573383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n.wikipedia.org/wiki/Electronic_portfolio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kidshealth.org/teen/your_mind/body_image/plastic_surger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hiway.pixnet.net/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O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342864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” and “mini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in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Mini face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Learn more about cosmetic plastic surgery"/>
          <p:cNvPicPr/>
          <p:nvPr/>
        </p:nvPicPr>
        <p:blipFill>
          <a:blip r:embed="rId1"/>
          <a:stretch/>
        </p:blipFill>
        <p:spPr>
          <a:xfrm>
            <a:off x="1979640" y="1700280"/>
            <a:ext cx="5159520" cy="4064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Learn more about facelifts"/>
          <p:cNvPicPr/>
          <p:nvPr/>
        </p:nvPicPr>
        <p:blipFill>
          <a:blip r:embed="rId2"/>
          <a:stretch/>
        </p:blipFill>
        <p:spPr>
          <a:xfrm>
            <a:off x="1979640" y="1700280"/>
            <a:ext cx="5160960" cy="4059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What is the cost of liposuction?"/>
          <p:cNvPicPr/>
          <p:nvPr/>
        </p:nvPicPr>
        <p:blipFill>
          <a:blip r:embed="rId3"/>
          <a:stretch/>
        </p:blipFill>
        <p:spPr>
          <a:xfrm>
            <a:off x="1979640" y="1700280"/>
            <a:ext cx="5162400" cy="4060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微整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osmetic surgery (Aesthetic plastic surg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ipos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cro plastic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i plastic surg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1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1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ain and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r recover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ostoperative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lo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or re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2637000"/>
            <a:ext cx="6480360" cy="1366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hy so many people are craz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bout the surg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6:33:32Z</dcterms:created>
  <dc:creator>sara</dc:creator>
  <dc:description/>
  <dc:language>en-US</dc:language>
  <cp:lastModifiedBy>shinwei</cp:lastModifiedBy>
  <dcterms:modified xsi:type="dcterms:W3CDTF">2010-10-28T04:57:07Z</dcterms:modified>
  <cp:revision>13</cp:revision>
  <dc:subject/>
  <dc:title>投影片 1</dc:title>
</cp:coreProperties>
</file>