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E11ED-9227-41F2-A88D-8F2EA40F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C702D-F088-4FA2-AC34-EBB8250E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DB2B1-EA31-47A7-8AB0-7FC165D1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633FF-D751-48AC-AD57-D08DB521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148E-4F75-4A73-8523-3B5755D7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525B-091E-4289-AA19-90A8F834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B5AF-8D50-4090-8028-A7617D99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8F22-3404-4F1D-822B-2150E1DB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03BF-A24E-42E5-B4C6-85977D73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C71F-615A-4FCA-84FA-BD5DA468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0200-5713-4908-B402-12D63561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146D8-F2D6-4BBA-BBEF-FF9E7B54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CEB5-224D-4AA7-A7C0-E28AC534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9BC0-BF66-4BBF-9BB5-58FBFE9C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B730-36AB-4D8F-A532-4FAB1470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7C83-296B-421D-8F5A-E79E016D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09C4-36C5-4969-B3BD-D7937BD9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1F382-8790-4354-AEA6-D7123F83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635C2-EA71-4704-8781-AFE4F732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F88A6-CC1E-4A92-8561-E7BB3E42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CCD99-DDF3-4D2D-8967-9DC441DA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33F60-3A8E-405A-80ED-3CB6B30C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018EF-AFDA-4CB8-BB59-4DDCDD16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4E41E-6010-48E6-91AF-BEA3C871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A5AA-A7BE-4DBA-8897-13EA2B552E2C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0670-61E3-44FC-841F-5F147D6195A9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lasticsurgery.org/" TargetMode="External"/><Relationship Id="rId2" Type="http://schemas.openxmlformats.org/officeDocument/2006/relationships/hyperlink" Target="http://www.plasticsurgery.org/" TargetMode="External"/><Relationship Id="rId3" Type="http://schemas.openxmlformats.org/officeDocument/2006/relationships/hyperlink" Target="http://www.plasticsurgery.org/" TargetMode="External"/><Relationship Id="rId4" Type="http://schemas.openxmlformats.org/officeDocument/2006/relationships/hyperlink" Target="http://kidshealth.org/teen/your_mind/body_image/plastic_surgery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i and Micro Procedures in Plastic Surgery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Sara 9850105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Rita 9850106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er Resurf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20000" cy="441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6720" cy="3517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50013" b="359"/>
          <a:stretch/>
        </p:blipFill>
        <p:spPr>
          <a:xfrm>
            <a:off x="3635280" y="256536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40040" y="32464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2 Asian countries 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Thai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Korea, Jap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ng Kong, Chin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Singapore ,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donesia, Malays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hilippines ,Vietn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500280"/>
            <a:ext cx="2665440" cy="1873440"/>
          </a:xfrm>
          <a:prstGeom prst="wedgeRoundRectCallout">
            <a:avLst>
              <a:gd name="adj1" fmla="val -43745"/>
              <a:gd name="adj2" fmla="val 753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313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916360" y="-1035000"/>
            <a:ext cx="6402240" cy="8253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2990880" cy="6597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3800" cy="3421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409080" cy="343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&amp;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ranches Of Th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Learn more about anti-aging and skincare"/>
          <p:cNvPicPr/>
          <p:nvPr/>
        </p:nvPicPr>
        <p:blipFill>
          <a:blip r:embed="rId1"/>
          <a:stretch/>
        </p:blipFill>
        <p:spPr>
          <a:xfrm>
            <a:off x="324000" y="2216160"/>
            <a:ext cx="4295520" cy="3378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Learn more about facelift and related procedures"/>
          <p:cNvPicPr/>
          <p:nvPr/>
        </p:nvPicPr>
        <p:blipFill>
          <a:blip r:embed="rId2"/>
          <a:stretch/>
        </p:blipFill>
        <p:spPr>
          <a:xfrm>
            <a:off x="3995640" y="2205000"/>
            <a:ext cx="4295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plasticsurgery.org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rplasticsurgeryguid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shs.edu.tw/works/essay/2008/03/2008033106573383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n.wikipedia.org/wiki/Electronic_portfolio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kidshealth.org/teen/your_mind/body_image/plastic_surg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hiway.pixnet.net/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O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” and “min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ini face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Learn more about cosmetic plastic surgery"/>
          <p:cNvPicPr/>
          <p:nvPr/>
        </p:nvPicPr>
        <p:blipFill>
          <a:blip r:embed="rId1"/>
          <a:stretch/>
        </p:blipFill>
        <p:spPr>
          <a:xfrm>
            <a:off x="1979640" y="1700280"/>
            <a:ext cx="5159520" cy="4064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Learn more about facelifts"/>
          <p:cNvPicPr/>
          <p:nvPr/>
        </p:nvPicPr>
        <p:blipFill>
          <a:blip r:embed="rId2"/>
          <a:stretch/>
        </p:blipFill>
        <p:spPr>
          <a:xfrm>
            <a:off x="1979640" y="1700280"/>
            <a:ext cx="5160960" cy="405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What is the cost of liposuction?"/>
          <p:cNvPicPr/>
          <p:nvPr/>
        </p:nvPicPr>
        <p:blipFill>
          <a:blip r:embed="rId3"/>
          <a:stretch/>
        </p:blipFill>
        <p:spPr>
          <a:xfrm>
            <a:off x="1979640" y="1700280"/>
            <a:ext cx="5162400" cy="4060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微整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smetic surgery (Aesthetic plastic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pos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cro plasti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 plastic surg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ain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r 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ostoper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l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2637000"/>
            <a:ext cx="6480360" cy="13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y so many people are cr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bout the surg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33:32Z</dcterms:created>
  <dc:creator>sara</dc:creator>
  <dc:description/>
  <dc:language>en-US</dc:language>
  <cp:lastModifiedBy>shinwei</cp:lastModifiedBy>
  <dcterms:modified xsi:type="dcterms:W3CDTF">2010-10-28T04:57:07Z</dcterms:modified>
  <cp:revision>13</cp:revision>
  <dc:subject/>
  <dc:title>投影片 1</dc:title>
</cp:coreProperties>
</file>