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4B5F-8B65-4DF0-BC82-AC89F031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CDFB2-1F92-49B6-87E8-9BE576D7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93B2-BC55-4709-86E1-63AFA7C2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FD05-BCC2-4C69-8D18-253FDF62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3A09-E935-48EB-8381-74A5ACC9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C7CC-7543-4A0F-A62D-604DF6AF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11EF-3F01-429B-8B35-54A9CF79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3DA9-07B4-4D37-A7C6-0D296535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1083-7C77-4452-8935-F52B0E0C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BF9D-56C4-449D-9729-6B83258B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168E-DAC3-426E-97B6-D91127C8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2C7F-BC22-414B-AA7F-B73E64CE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B7B3-AE7F-4163-A0E3-AC71732E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9CB1-CC69-40B0-9415-A6BF8730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9B9D-29E0-4DF5-BA03-6ED53772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5BBA-0476-4F9E-AC3D-2FFB9322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0CF7-A08C-4051-B97B-1883C2D8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CDA3-5875-477B-8396-7ADF80D6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C803E-D8F0-4CAC-8CAA-4CD1465F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399F-102A-419D-BE2B-F59F08D3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5ED8-1583-45F8-B788-3AA27C9B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39BF-159E-44A2-A2C6-81EC8903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0DE8-7C76-410F-862D-4D255AE3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D439-080B-49B0-86BD-1A91BE9B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A286-D6E5-4E94-A11E-491C94867CD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314A-FFBE-45A5-81D9-7BDC7C6DA2A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4:57:07Z</dcterms:modified>
  <cp:revision>13</cp:revision>
  <dc:subject/>
  <dc:title>投影片 1</dc:title>
</cp:coreProperties>
</file>